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9.jpeg" ContentType="image/jpeg"/>
  <Override PartName="/ppt/media/image25.png" ContentType="image/png"/>
  <Override PartName="/ppt/media/image16.jpeg" ContentType="image/jpeg"/>
  <Override PartName="/ppt/media/image24.jpeg" ContentType="image/jpeg"/>
  <Override PartName="/ppt/media/image59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57.png" ContentType="image/png"/>
  <Override PartName="/ppt/media/image32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26.jpeg" ContentType="image/jpeg"/>
  <Override PartName="/ppt/media/image42.png" ContentType="image/png"/>
  <Override PartName="/ppt/media/image64.png" ContentType="image/png"/>
  <Override PartName="/ppt/media/image31.png" ContentType="image/png"/>
  <Override PartName="/ppt/media/image66.png" ContentType="image/png"/>
  <Override PartName="/ppt/media/image29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21.jpeg" ContentType="image/jpeg"/>
  <Override PartName="/ppt/media/image65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DDF8-46FC-4E97-8E1A-2FA01D31F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B292-B4D1-4785-993C-C3C3C9503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75A0-E720-4DA1-A3D9-E526DAE1A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BBDB-16F7-41CD-A98E-EDDC0C1DF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093-1A84-46E3-987B-6432A69C7E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145-179F-488E-8533-36C3072785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25B-31B6-4076-9747-BA29C4BE72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1C4-63FC-429D-9D82-8EDF2C6E85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676-A17E-497B-9865-D05E1FCF3E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7CC-789E-439D-B85F-59F3DAB01D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B81-3F26-47E5-9919-1F4B11EC58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223A-8DBD-4FD6-AEB9-A6E32ED39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44B-3290-4EC8-8F8E-3A4B28E587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828-94D6-4F9A-B54E-9EAE08A62F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EFC-61A6-46E2-BDD9-705CCABF1F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D50-CE2B-4CD9-80F0-0E27E7E69C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2F8-23FE-4C94-9427-98EC1C7C36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61203-3E6C-4C38-BBAF-0A19EAB9AD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0BC8D-665B-4A58-9E0E-5D325A2F47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57FD9-A8CA-41A6-849F-558EC19E86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1AB54-BAD0-472D-AAF3-4925B4D869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AF9D7-29D4-4E3B-B603-FD9469152D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F1C0-D8CD-42B4-B3F3-6DF12AB49B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7BB1D-1E18-4B87-96C5-4D7A7B2D04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B4545-C7D0-4E1F-AA70-5B1FE2E171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184D2-7E9D-48EF-B7BF-CD3575FDEF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7F079-9664-4A41-966F-B0D0D0E06E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F41CD-927C-464C-AA99-43958773E7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4CF90-5B5C-4483-8CB9-5D119A343A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8CE99-7403-4D3E-AE57-BD848E7F3A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00FD-4511-4710-8C49-92DEC1D2EC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8A35-9110-4FDA-B18A-08DDD3146E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CF6C-5943-4BF2-AB99-0B603545A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6BA2-FEEC-4EBE-83FD-3FC063FE88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EB28-8266-4881-945B-886FA960EB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7145-64CD-42C0-96AF-2A6CB67C89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7F45-F804-41C2-89C3-FD705B530D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205-3956-452E-8B21-0104BDB50A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5C74-C899-4182-9D70-4E287832A1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8461-8465-43D8-A048-6944BFA29D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3150-15E8-4DC3-84A5-8523C5B81F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44C8-385A-49AD-96DD-39E324EE5E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B718-0B7F-458F-BEB7-907578947C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FF0E4-FE13-49A4-A815-2993B5BCE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83D3-4238-42A6-BB62-9AA4E09592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76C0A-A1C2-4AD1-8FAE-8957E81CB1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608C4-40BD-46BD-B174-B19AE586E3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436F8-4C1A-4F39-AED0-549522F67F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4700D-2025-45E7-81AB-7E82C38F8DD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17EFA-56B3-45E4-9240-7F1D175F5C1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CCC19-B29B-44BB-BEA8-21BF1E29D5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0089C-9CB0-496F-908A-DA06F5FDD1F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9A488-EA5F-4052-94AA-58E0A38295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627B5-89E3-4222-98E2-6561B8F32C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4C535-9955-4C85-8E8B-65B543CB3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ED8E-6E8C-452F-B73E-22CA50BEA4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76575-0CB5-4B93-BA12-60E63D2F6D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68CC85-8BE8-4857-82F2-6009D259D9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6F9267-CC73-440D-BD65-FEA831F6B64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EBB77-B1C5-43C7-BA33-79288D75085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7546A2-E8DC-4D1F-A29B-60139A174DF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ACBB0-CCBE-46BD-B7FA-79CB7E1C38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DDC21-0698-4A05-9841-458225A18E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DC3724-B838-48AF-86B1-50A27C330C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44C2A-385A-416A-A3F1-6E1132E5FC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636882-C126-4127-B1FD-D559B2875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68B6-ECD0-41B0-9C97-0E27FE33AB9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A9AA0-89D7-4672-9FBE-87944FFE0E9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87DD31-E402-4885-BF4B-7DF8BA92C82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B912C-13E2-4A66-9584-B4508C851F5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A951-09A4-4440-8E05-3EB88172583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BAA4-7364-4351-807D-EE2A67C3533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B8EEE-F81F-46D7-B994-7C250B93A4D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345DD-4C4E-4172-BE8F-765EBBE3C5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1EDC-FB79-4F21-B426-B36CDCFA678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B663D-604B-4C96-84FD-74888BF541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2A01-6967-474F-826A-B7F160C7C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F227-23F1-4617-A8B2-30F57AB99BE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ABD58-D466-4D4B-BF85-BDD9600814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1268-CB47-4B8F-8B61-9908DB7D80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58DBD-141F-4236-8664-F21C0C051DA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C6684-1A7E-450D-8576-C232FC60FF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B4A72-CF30-4EC1-B4A2-D2345E780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A898-AA32-4786-89C0-8E5B8459B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1944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E126-0260-4EB3-86C7-AA35989E1208}" type="slidenum">
              <a:rPr b="1" lang="de-DE" sz="1200" spc="-1" strike="noStrike">
                <a:solidFill>
                  <a:srgbClr val="1944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itelplatzhalter 1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Titelmasterformat durch Klicken bearbe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hteck 4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Titelplatzhalter 1"/>
          <p:cNvSpPr/>
          <p:nvPr/>
        </p:nvSpPr>
        <p:spPr>
          <a:xfrm>
            <a:off x="0" y="404640"/>
            <a:ext cx="9144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Herzlich Willkom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Textfeld 7"/>
          <p:cNvSpPr/>
          <p:nvPr/>
        </p:nvSpPr>
        <p:spPr>
          <a:xfrm>
            <a:off x="324000" y="-2700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94488"/>
                </a:solidFill>
                <a:latin typeface="Calibri"/>
              </a:rPr>
              <a:t>Erstunterweisung Jugendlic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Grafik 9" descr=""/>
          <p:cNvPicPr/>
          <p:nvPr/>
        </p:nvPicPr>
        <p:blipFill>
          <a:blip r:embed="rId2"/>
          <a:srcRect l="5908" t="2115" r="6312" b="32561"/>
          <a:stretch/>
        </p:blipFill>
        <p:spPr>
          <a:xfrm>
            <a:off x="7885080" y="0"/>
            <a:ext cx="863640" cy="825480"/>
          </a:xfrm>
          <a:prstGeom prst="rect">
            <a:avLst/>
          </a:prstGeom>
          <a:ln w="0">
            <a:noFill/>
          </a:ln>
        </p:spPr>
      </p:pic>
      <p:sp>
        <p:nvSpPr>
          <p:cNvPr id="43" name="Rechteck 6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ußzeilenplatzhalter 4"/>
          <p:cNvSpPr/>
          <p:nvPr/>
        </p:nvSpPr>
        <p:spPr>
          <a:xfrm>
            <a:off x="324000" y="6377040"/>
            <a:ext cx="555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 </a:t>
            </a: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©           Forum-Verlag Herkert Gm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Grafik 11" descr=""/>
          <p:cNvPicPr/>
          <p:nvPr/>
        </p:nvPicPr>
        <p:blipFill>
          <a:blip r:embed="rId3"/>
          <a:srcRect l="5921" t="2144" r="6250" b="32590"/>
          <a:stretch/>
        </p:blipFill>
        <p:spPr>
          <a:xfrm>
            <a:off x="612720" y="6394320"/>
            <a:ext cx="287280" cy="274680"/>
          </a:xfrm>
          <a:prstGeom prst="rect">
            <a:avLst/>
          </a:prstGeom>
          <a:ln w="0">
            <a:noFill/>
          </a:ln>
        </p:spPr>
      </p:pic>
      <p:sp>
        <p:nvSpPr>
          <p:cNvPr id="46" name="Line 16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17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0" y="6404040"/>
            <a:ext cx="914400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5527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1944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3BB5-E24F-4D9C-8F2A-DD1E26BEA180}" type="slidenum">
              <a:rPr b="1" lang="de-DE" sz="1200" spc="-1" strike="noStrike">
                <a:solidFill>
                  <a:srgbClr val="1944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hteck 4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6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feld 7"/>
          <p:cNvSpPr/>
          <p:nvPr/>
        </p:nvSpPr>
        <p:spPr>
          <a:xfrm>
            <a:off x="324000" y="7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94488"/>
                </a:solidFill>
                <a:latin typeface="Calibri"/>
              </a:rPr>
              <a:t>Erstunterweisung Jugendlic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Grafik 9" descr=""/>
          <p:cNvPicPr/>
          <p:nvPr/>
        </p:nvPicPr>
        <p:blipFill>
          <a:blip r:embed="rId2"/>
          <a:srcRect l="5908" t="2115" r="6312" b="32561"/>
          <a:stretch/>
        </p:blipFill>
        <p:spPr>
          <a:xfrm>
            <a:off x="7885080" y="0"/>
            <a:ext cx="863640" cy="825480"/>
          </a:xfrm>
          <a:prstGeom prst="rect">
            <a:avLst/>
          </a:prstGeom>
          <a:ln w="0">
            <a:noFill/>
          </a:ln>
        </p:spPr>
      </p:pic>
      <p:pic>
        <p:nvPicPr>
          <p:cNvPr id="91" name="Grafik 9" descr=""/>
          <p:cNvPicPr/>
          <p:nvPr/>
        </p:nvPicPr>
        <p:blipFill>
          <a:blip r:embed="rId3"/>
          <a:srcRect l="5921" t="2144" r="6250" b="32590"/>
          <a:stretch/>
        </p:blipFill>
        <p:spPr>
          <a:xfrm>
            <a:off x="611280" y="6394320"/>
            <a:ext cx="287280" cy="274680"/>
          </a:xfrm>
          <a:prstGeom prst="rect">
            <a:avLst/>
          </a:prstGeom>
          <a:ln w="0">
            <a:noFill/>
          </a:ln>
        </p:spPr>
      </p:pic>
      <p:sp>
        <p:nvSpPr>
          <p:cNvPr id="92" name="Fußzeilenplatzhalter 4"/>
          <p:cNvSpPr/>
          <p:nvPr/>
        </p:nvSpPr>
        <p:spPr>
          <a:xfrm>
            <a:off x="324000" y="6381720"/>
            <a:ext cx="555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 </a:t>
            </a: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©           Forum-Verlag Herkert Gm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4"/>
          </p:nvPr>
        </p:nvSpPr>
        <p:spPr>
          <a:xfrm>
            <a:off x="324000" y="6381720"/>
            <a:ext cx="55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65527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1944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A1C6-7BAA-4275-ACCC-8EE01D56E991}" type="slidenum">
              <a:rPr b="1" lang="de-DE" sz="1200" spc="-1" strike="noStrike">
                <a:solidFill>
                  <a:srgbClr val="1944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hteck 4"/>
          <p:cNvSpPr/>
          <p:nvPr/>
        </p:nvSpPr>
        <p:spPr>
          <a:xfrm>
            <a:off x="0" y="0"/>
            <a:ext cx="7921800" cy="47628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hteck 6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feld 7"/>
          <p:cNvSpPr/>
          <p:nvPr/>
        </p:nvSpPr>
        <p:spPr>
          <a:xfrm>
            <a:off x="32400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&lt; Thema – bitte im Folienmaster anpassen 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Grafik 9" descr=""/>
          <p:cNvPicPr/>
          <p:nvPr/>
        </p:nvPicPr>
        <p:blipFill>
          <a:blip r:embed="rId2"/>
          <a:srcRect l="5908" t="2115" r="6312" b="32561"/>
          <a:stretch/>
        </p:blipFill>
        <p:spPr>
          <a:xfrm>
            <a:off x="7885080" y="0"/>
            <a:ext cx="863640" cy="82548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3"/>
          <a:srcRect l="5921" t="2144" r="6250" b="32590"/>
          <a:stretch/>
        </p:blipFill>
        <p:spPr>
          <a:xfrm>
            <a:off x="612720" y="6394320"/>
            <a:ext cx="287280" cy="274680"/>
          </a:xfrm>
          <a:prstGeom prst="rect">
            <a:avLst/>
          </a:prstGeom>
          <a:ln w="0">
            <a:noFill/>
          </a:ln>
        </p:spPr>
      </p:pic>
      <p:sp>
        <p:nvSpPr>
          <p:cNvPr id="140" name="Fußzeilenplatzhalter 4"/>
          <p:cNvSpPr/>
          <p:nvPr/>
        </p:nvSpPr>
        <p:spPr>
          <a:xfrm>
            <a:off x="324000" y="6377040"/>
            <a:ext cx="555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 </a:t>
            </a: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©           Forum-Verlag Herkert Gm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ldNum" idx="6"/>
          </p:nvPr>
        </p:nvSpPr>
        <p:spPr>
          <a:xfrm>
            <a:off x="65527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1944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0FA5-09C9-45C8-ABEB-EF477F57406B}" type="slidenum">
              <a:rPr b="1" lang="de-DE" sz="1200" spc="-1" strike="noStrike">
                <a:solidFill>
                  <a:srgbClr val="1944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7"/>
          </p:nvPr>
        </p:nvSpPr>
        <p:spPr>
          <a:xfrm>
            <a:off x="324000" y="6381720"/>
            <a:ext cx="55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4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0" y="0"/>
            <a:ext cx="7921800" cy="47628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feld 7"/>
          <p:cNvSpPr/>
          <p:nvPr/>
        </p:nvSpPr>
        <p:spPr>
          <a:xfrm>
            <a:off x="32400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&lt; Thema – bitte im Folienmaster anpassen 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Grafik 8" descr=""/>
          <p:cNvPicPr/>
          <p:nvPr/>
        </p:nvPicPr>
        <p:blipFill>
          <a:blip r:embed="rId2"/>
          <a:srcRect l="5908" t="2115" r="6312" b="32561"/>
          <a:stretch/>
        </p:blipFill>
        <p:spPr>
          <a:xfrm>
            <a:off x="7885080" y="0"/>
            <a:ext cx="863640" cy="825480"/>
          </a:xfrm>
          <a:prstGeom prst="rect">
            <a:avLst/>
          </a:prstGeom>
          <a:ln w="0">
            <a:noFill/>
          </a:ln>
        </p:spPr>
      </p:pic>
      <p:pic>
        <p:nvPicPr>
          <p:cNvPr id="186" name="Grafik 9" descr=""/>
          <p:cNvPicPr/>
          <p:nvPr/>
        </p:nvPicPr>
        <p:blipFill>
          <a:blip r:embed="rId3"/>
          <a:srcRect l="5921" t="2144" r="6250" b="32590"/>
          <a:stretch/>
        </p:blipFill>
        <p:spPr>
          <a:xfrm>
            <a:off x="612720" y="6394320"/>
            <a:ext cx="287280" cy="274680"/>
          </a:xfrm>
          <a:prstGeom prst="rect">
            <a:avLst/>
          </a:prstGeom>
          <a:ln w="0">
            <a:noFill/>
          </a:ln>
        </p:spPr>
      </p:pic>
      <p:sp>
        <p:nvSpPr>
          <p:cNvPr id="187" name="Fußzeilenplatzhalter 4"/>
          <p:cNvSpPr/>
          <p:nvPr/>
        </p:nvSpPr>
        <p:spPr>
          <a:xfrm>
            <a:off x="324000" y="6377040"/>
            <a:ext cx="555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 </a:t>
            </a: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©           Forum-Verlag Herkert Gm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ldNum" idx="8"/>
          </p:nvPr>
        </p:nvSpPr>
        <p:spPr>
          <a:xfrm>
            <a:off x="65527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1944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3A51-3101-4489-8B63-71E07288E241}" type="slidenum">
              <a:rPr b="1" lang="de-DE" sz="1200" spc="-1" strike="noStrike">
                <a:solidFill>
                  <a:srgbClr val="1944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9"/>
          </p:nvPr>
        </p:nvSpPr>
        <p:spPr>
          <a:xfrm>
            <a:off x="324000" y="6381720"/>
            <a:ext cx="55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eck 4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feld 7"/>
          <p:cNvSpPr/>
          <p:nvPr/>
        </p:nvSpPr>
        <p:spPr>
          <a:xfrm>
            <a:off x="32400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&lt; Thema – bitte im Folienmaster anpassen 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hteck 7"/>
          <p:cNvSpPr/>
          <p:nvPr/>
        </p:nvSpPr>
        <p:spPr>
          <a:xfrm>
            <a:off x="0" y="0"/>
            <a:ext cx="7921800" cy="47628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feld 7"/>
          <p:cNvSpPr/>
          <p:nvPr/>
        </p:nvSpPr>
        <p:spPr>
          <a:xfrm>
            <a:off x="32400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&lt; Thema – bitte im Folienmaster anpassen 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Grafik 9" descr=""/>
          <p:cNvPicPr/>
          <p:nvPr/>
        </p:nvPicPr>
        <p:blipFill>
          <a:blip r:embed="rId2"/>
          <a:srcRect l="5908" t="2115" r="6312" b="32561"/>
          <a:stretch/>
        </p:blipFill>
        <p:spPr>
          <a:xfrm>
            <a:off x="7885080" y="0"/>
            <a:ext cx="863640" cy="825480"/>
          </a:xfrm>
          <a:prstGeom prst="rect">
            <a:avLst/>
          </a:prstGeom>
          <a:ln w="0">
            <a:noFill/>
          </a:ln>
        </p:spPr>
      </p:pic>
      <p:pic>
        <p:nvPicPr>
          <p:cNvPr id="234" name="Grafik 9" descr=""/>
          <p:cNvPicPr/>
          <p:nvPr/>
        </p:nvPicPr>
        <p:blipFill>
          <a:blip r:embed="rId3"/>
          <a:srcRect l="5921" t="2144" r="6250" b="32590"/>
          <a:stretch/>
        </p:blipFill>
        <p:spPr>
          <a:xfrm>
            <a:off x="612720" y="6394320"/>
            <a:ext cx="287280" cy="274680"/>
          </a:xfrm>
          <a:prstGeom prst="rect">
            <a:avLst/>
          </a:prstGeom>
          <a:ln w="0">
            <a:noFill/>
          </a:ln>
        </p:spPr>
      </p:pic>
      <p:sp>
        <p:nvSpPr>
          <p:cNvPr id="235" name="Fußzeilenplatzhalter 4"/>
          <p:cNvSpPr/>
          <p:nvPr/>
        </p:nvSpPr>
        <p:spPr>
          <a:xfrm>
            <a:off x="324000" y="6377040"/>
            <a:ext cx="555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 </a:t>
            </a: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©           Forum-Verlag Herkert Gm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Num" idx="10"/>
          </p:nvPr>
        </p:nvSpPr>
        <p:spPr>
          <a:xfrm>
            <a:off x="65527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1944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49F4-BBAB-4EBE-9D3D-EEAEC65062F4}" type="slidenum">
              <a:rPr b="1" lang="de-DE" sz="1200" spc="-1" strike="noStrike">
                <a:solidFill>
                  <a:srgbClr val="1944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1"/>
          </p:nvPr>
        </p:nvSpPr>
        <p:spPr>
          <a:xfrm>
            <a:off x="324000" y="6381720"/>
            <a:ext cx="55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hteck 4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ußzeilenplatzhalter 4"/>
          <p:cNvSpPr/>
          <p:nvPr/>
        </p:nvSpPr>
        <p:spPr>
          <a:xfrm>
            <a:off x="324000" y="6377040"/>
            <a:ext cx="555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 </a:t>
            </a:r>
            <a:r>
              <a:rPr b="1" lang="de-DE" sz="1200" spc="-1" strike="noStrike">
                <a:solidFill>
                  <a:srgbClr val="194488"/>
                </a:solidFill>
                <a:latin typeface="Calibri"/>
              </a:rPr>
              <a:t>©           Forum-Verlag Herkert Gm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Grafik 9" descr=""/>
          <p:cNvPicPr/>
          <p:nvPr/>
        </p:nvPicPr>
        <p:blipFill>
          <a:blip r:embed="rId2"/>
          <a:srcRect l="5921" t="2144" r="6250" b="32590"/>
          <a:stretch/>
        </p:blipFill>
        <p:spPr>
          <a:xfrm>
            <a:off x="612720" y="6394320"/>
            <a:ext cx="287280" cy="274680"/>
          </a:xfrm>
          <a:prstGeom prst="rect">
            <a:avLst/>
          </a:prstGeom>
          <a:ln w="0">
            <a:noFill/>
          </a:ln>
        </p:spPr>
      </p:pic>
      <p:sp>
        <p:nvSpPr>
          <p:cNvPr id="280" name="Rechteck 8"/>
          <p:cNvSpPr/>
          <p:nvPr/>
        </p:nvSpPr>
        <p:spPr>
          <a:xfrm>
            <a:off x="0" y="0"/>
            <a:ext cx="7921800" cy="47628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feld 7"/>
          <p:cNvSpPr/>
          <p:nvPr/>
        </p:nvSpPr>
        <p:spPr>
          <a:xfrm>
            <a:off x="32400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&lt; Thema – bitte im Folienmaster anpassen 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Grafik 9" descr=""/>
          <p:cNvPicPr/>
          <p:nvPr/>
        </p:nvPicPr>
        <p:blipFill>
          <a:blip r:embed="rId3"/>
          <a:srcRect l="5908" t="2115" r="6312" b="32561"/>
          <a:stretch/>
        </p:blipFill>
        <p:spPr>
          <a:xfrm>
            <a:off x="7885080" y="0"/>
            <a:ext cx="863640" cy="825480"/>
          </a:xfrm>
          <a:prstGeom prst="rect">
            <a:avLst/>
          </a:prstGeom>
          <a:ln w="0">
            <a:noFill/>
          </a:ln>
        </p:spPr>
      </p:pic>
      <p:sp>
        <p:nvSpPr>
          <p:cNvPr id="283" name="Line 19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Num" idx="12"/>
          </p:nvPr>
        </p:nvSpPr>
        <p:spPr>
          <a:xfrm>
            <a:off x="65527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1944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93E8-A46C-4946-BA06-D36F2A2A712C}" type="slidenum">
              <a:rPr b="1" lang="de-DE" sz="1200" spc="-1" strike="noStrike">
                <a:solidFill>
                  <a:srgbClr val="1944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3"/>
          </p:nvPr>
        </p:nvSpPr>
        <p:spPr>
          <a:xfrm>
            <a:off x="324000" y="6381720"/>
            <a:ext cx="55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852640"/>
            <a:ext cx="9144000" cy="719280"/>
          </a:xfrm>
          <a:prstGeom prst="rect">
            <a:avLst/>
          </a:prstGeom>
          <a:gradFill rotWithShape="0">
            <a:gsLst>
              <a:gs pos="0">
                <a:srgbClr val="1f49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71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eece1"/>
                </a:solidFill>
                <a:latin typeface="Calibri"/>
              </a:rPr>
              <a:t>Erstunterweisung </a:t>
            </a:r>
            <a:r>
              <a:rPr b="1" lang="de-DE" sz="3200" spc="-1" strike="noStrike">
                <a:solidFill>
                  <a:srgbClr val="194488"/>
                </a:solidFill>
                <a:latin typeface="Calibri"/>
              </a:rPr>
              <a:t>Jugendlicher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0" y="3571920"/>
            <a:ext cx="9144000" cy="720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txBody>
          <a:bodyPr anchor="ctr">
            <a:noAutofit/>
          </a:bodyPr>
          <a:p>
            <a:pPr marL="1071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194488"/>
                </a:solidFill>
                <a:latin typeface="Calibri"/>
              </a:rPr>
              <a:t>Erkennen – Verstehen – Handel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3857760" y="4653000"/>
            <a:ext cx="920520" cy="933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2406600" y="458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"/>
          <p:cNvPicPr/>
          <p:nvPr/>
        </p:nvPicPr>
        <p:blipFill>
          <a:blip r:embed="rId4"/>
          <a:stretch/>
        </p:blipFill>
        <p:spPr>
          <a:xfrm>
            <a:off x="5292720" y="4659480"/>
            <a:ext cx="942840" cy="93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"/>
          <p:cNvPicPr/>
          <p:nvPr/>
        </p:nvPicPr>
        <p:blipFill>
          <a:blip r:embed="rId5"/>
          <a:stretch/>
        </p:blipFill>
        <p:spPr>
          <a:xfrm>
            <a:off x="6892920" y="46753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30" name="Gerade Verbindung 4"/>
          <p:cNvSpPr/>
          <p:nvPr/>
        </p:nvSpPr>
        <p:spPr>
          <a:xfrm>
            <a:off x="539640" y="2852640"/>
            <a:ext cx="0" cy="71928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Gerade Verbindung 13"/>
          <p:cNvSpPr/>
          <p:nvPr/>
        </p:nvSpPr>
        <p:spPr>
          <a:xfrm>
            <a:off x="539640" y="3571920"/>
            <a:ext cx="0" cy="720720"/>
          </a:xfrm>
          <a:prstGeom prst="line">
            <a:avLst/>
          </a:prstGeom>
          <a:ln w="76320">
            <a:solidFill>
              <a:srgbClr val="1944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Freistellung für die Berufsschule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95E7-2A79-46BD-903D-306FA64E02B2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hteck 1"/>
          <p:cNvSpPr/>
          <p:nvPr/>
        </p:nvSpPr>
        <p:spPr>
          <a:xfrm>
            <a:off x="395280" y="1052640"/>
            <a:ext cx="4753080" cy="4894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Freistellung von der Anwesenheitspflicht in der Ausbildungsstätte/im Betrieb für den Besuch der Berufsschule erfolg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i Berufsschulunterricht, der </a:t>
            </a: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vor 9 Uhr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ginn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 einem Berufsschultag mit </a:t>
            </a: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mehr als 5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terrichtsstund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 Berufsschulwochen mit planmäßigem Blockunterricht von </a:t>
            </a: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mindestens 25 Stunden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mindestens 5 Tagen</a:t>
            </a:r>
            <a:r>
              <a:rPr b="0" lang="de-DE" sz="1800" spc="-1" strike="noStrike">
                <a:solidFill>
                  <a:srgbClr val="194488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Sie werden zudem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ür außerbetriebliche Ausbildungsmaßnahmen freigestell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7" descr=""/>
          <p:cNvPicPr/>
          <p:nvPr/>
        </p:nvPicPr>
        <p:blipFill>
          <a:blip r:embed="rId1"/>
          <a:stretch/>
        </p:blipFill>
        <p:spPr>
          <a:xfrm>
            <a:off x="5241960" y="1989000"/>
            <a:ext cx="3494160" cy="2926080"/>
          </a:xfrm>
          <a:prstGeom prst="rect">
            <a:avLst/>
          </a:prstGeom>
          <a:ln w="0">
            <a:noFill/>
          </a:ln>
        </p:spPr>
      </p:pic>
      <p:pic>
        <p:nvPicPr>
          <p:cNvPr id="386" name="Textfeld 2" descr=""/>
          <p:cNvPicPr/>
          <p:nvPr/>
        </p:nvPicPr>
        <p:blipFill>
          <a:blip r:embed="rId2"/>
          <a:stretch/>
        </p:blipFill>
        <p:spPr>
          <a:xfrm>
            <a:off x="8736120" y="3267000"/>
            <a:ext cx="3715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Freistellung für Prüfungen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778A-5A95-4A3B-A380-F4CBEAAE56E3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hteck 1"/>
          <p:cNvSpPr/>
          <p:nvPr/>
        </p:nvSpPr>
        <p:spPr>
          <a:xfrm>
            <a:off x="395280" y="1668600"/>
            <a:ext cx="4753080" cy="2151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ie werden für die Teilnahme an Prüfungen freigestellt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m Prüfungstag selbs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m Tag vor einer schriftlichen Prüfu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hteck 2"/>
          <p:cNvSpPr/>
          <p:nvPr/>
        </p:nvSpPr>
        <p:spPr>
          <a:xfrm>
            <a:off x="395280" y="5302080"/>
            <a:ext cx="4753080" cy="642600"/>
          </a:xfrm>
          <a:prstGeom prst="rect">
            <a:avLst/>
          </a:prstGeom>
          <a:solidFill>
            <a:srgbClr val="d9d9d9"/>
          </a:solidFill>
          <a:ln w="9360">
            <a:solidFill>
              <a:srgbClr val="1944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reistellungen werden auf die Arbeitszeit angerechn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8" descr=""/>
          <p:cNvPicPr/>
          <p:nvPr/>
        </p:nvPicPr>
        <p:blipFill>
          <a:blip r:embed="rId1"/>
          <a:stretch/>
        </p:blipFill>
        <p:spPr>
          <a:xfrm>
            <a:off x="5372280" y="1484280"/>
            <a:ext cx="345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Urlaub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95F3-FC9B-433E-873D-CC7BF8CDBC88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hteck 1"/>
          <p:cNvSpPr/>
          <p:nvPr/>
        </p:nvSpPr>
        <p:spPr>
          <a:xfrm>
            <a:off x="395280" y="1052640"/>
            <a:ext cx="3097080" cy="3934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Der Jahresurlaub kann nur </a:t>
            </a:r>
            <a:r>
              <a:rPr b="1" lang="de-DE" sz="1800" spc="-1" strike="noStrike">
                <a:solidFill>
                  <a:srgbClr val="194488"/>
                </a:solidFill>
                <a:latin typeface="Calibri"/>
                <a:ea typeface="Arial"/>
              </a:rPr>
              <a:t>während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 der Berufsschulferien gewährt we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Der Urlaubsanspruch beträgt </a:t>
            </a:r>
            <a:r>
              <a:rPr b="1" lang="de-DE" sz="1800" spc="-1" strike="noStrike">
                <a:solidFill>
                  <a:srgbClr val="194488"/>
                </a:solidFill>
                <a:latin typeface="Calibri"/>
                <a:ea typeface="Arial"/>
              </a:rPr>
              <a:t>mindestens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 24 Werktage jährli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Der Anspruch auf bezahlten Jahresurlaub entsteht für </a:t>
            </a:r>
            <a:r>
              <a:rPr b="1" lang="de-DE" sz="1800" spc="-1" strike="noStrike">
                <a:solidFill>
                  <a:srgbClr val="194488"/>
                </a:solidFill>
                <a:latin typeface="Calibri"/>
                <a:ea typeface="Arial"/>
              </a:rPr>
              <a:t>jedes</a:t>
            </a:r>
            <a:r>
              <a:rPr b="0" lang="de-DE" sz="1800" spc="-1" strike="noStrike">
                <a:solidFill>
                  <a:srgbClr val="194488"/>
                </a:solidFill>
                <a:latin typeface="Calibri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Kalenderjah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Tarifvertragliche Regelungen sind zu beacht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hteck 4"/>
          <p:cNvSpPr/>
          <p:nvPr/>
        </p:nvSpPr>
        <p:spPr>
          <a:xfrm>
            <a:off x="4067280" y="1052640"/>
            <a:ext cx="4897440" cy="5760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usnahmen für Jugendlic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hteck 10"/>
          <p:cNvSpPr/>
          <p:nvPr/>
        </p:nvSpPr>
        <p:spPr>
          <a:xfrm>
            <a:off x="4067280" y="1773360"/>
            <a:ext cx="1695240" cy="576000"/>
          </a:xfrm>
          <a:prstGeom prst="rect">
            <a:avLst/>
          </a:prstGeom>
          <a:solidFill>
            <a:srgbClr val="cdcd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94488"/>
                </a:solidFill>
                <a:latin typeface="Calibri"/>
              </a:rPr>
              <a:t>unter 16 Jah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hteck 11"/>
          <p:cNvSpPr/>
          <p:nvPr/>
        </p:nvSpPr>
        <p:spPr>
          <a:xfrm>
            <a:off x="6267600" y="1773360"/>
            <a:ext cx="2697120" cy="576000"/>
          </a:xfrm>
          <a:prstGeom prst="rect">
            <a:avLst/>
          </a:prstGeom>
          <a:solidFill>
            <a:srgbClr val="cdcd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94488"/>
                </a:solidFill>
                <a:latin typeface="Calibri"/>
              </a:rPr>
              <a:t>mindestens 30 Werktag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8" name="Gerade Verbindung mit Pfeil 12"/>
          <p:cNvCxnSpPr>
            <a:stCxn id="396" idx="3"/>
            <a:endCxn id="397" idx="1"/>
          </p:cNvCxnSpPr>
          <p:nvPr/>
        </p:nvCxnSpPr>
        <p:spPr>
          <a:xfrm>
            <a:off x="5762160" y="2060280"/>
            <a:ext cx="505800" cy="1080"/>
          </a:xfrm>
          <a:prstGeom prst="straightConnector1">
            <a:avLst/>
          </a:prstGeom>
          <a:ln w="9360">
            <a:solidFill>
              <a:srgbClr val="194488"/>
            </a:solidFill>
            <a:miter/>
            <a:tailEnd len="med" type="triangle" w="med"/>
          </a:ln>
        </p:spPr>
      </p:cxnSp>
      <p:sp>
        <p:nvSpPr>
          <p:cNvPr id="399" name="Rechteck 13"/>
          <p:cNvSpPr/>
          <p:nvPr/>
        </p:nvSpPr>
        <p:spPr>
          <a:xfrm>
            <a:off x="4067280" y="2492280"/>
            <a:ext cx="1695240" cy="576360"/>
          </a:xfrm>
          <a:prstGeom prst="rect">
            <a:avLst/>
          </a:prstGeom>
          <a:solidFill>
            <a:srgbClr val="cdcd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94488"/>
                </a:solidFill>
                <a:latin typeface="Calibri"/>
              </a:rPr>
              <a:t>unter 17 Jah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hteck 14"/>
          <p:cNvSpPr/>
          <p:nvPr/>
        </p:nvSpPr>
        <p:spPr>
          <a:xfrm>
            <a:off x="6267600" y="2492280"/>
            <a:ext cx="2697120" cy="576360"/>
          </a:xfrm>
          <a:prstGeom prst="rect">
            <a:avLst/>
          </a:prstGeom>
          <a:solidFill>
            <a:srgbClr val="cdcd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94488"/>
                </a:solidFill>
                <a:latin typeface="Calibri"/>
              </a:rPr>
              <a:t>mindestens 27 Werk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1" name="Gerade Verbindung mit Pfeil 15"/>
          <p:cNvCxnSpPr>
            <a:stCxn id="399" idx="3"/>
            <a:endCxn id="400" idx="1"/>
          </p:cNvCxnSpPr>
          <p:nvPr/>
        </p:nvCxnSpPr>
        <p:spPr>
          <a:xfrm>
            <a:off x="5762160" y="2781000"/>
            <a:ext cx="505800" cy="1080"/>
          </a:xfrm>
          <a:prstGeom prst="straightConnector1">
            <a:avLst/>
          </a:prstGeom>
          <a:ln w="9360">
            <a:solidFill>
              <a:srgbClr val="194488"/>
            </a:solidFill>
            <a:miter/>
            <a:tailEnd len="med" type="triangle" w="med"/>
          </a:ln>
        </p:spPr>
      </p:cxnSp>
      <p:sp>
        <p:nvSpPr>
          <p:cNvPr id="402" name="Rechteck 26"/>
          <p:cNvSpPr/>
          <p:nvPr/>
        </p:nvSpPr>
        <p:spPr>
          <a:xfrm>
            <a:off x="4067280" y="3213000"/>
            <a:ext cx="1695240" cy="576360"/>
          </a:xfrm>
          <a:prstGeom prst="rect">
            <a:avLst/>
          </a:prstGeom>
          <a:solidFill>
            <a:srgbClr val="cdcd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94488"/>
                </a:solidFill>
                <a:latin typeface="Calibri"/>
              </a:rPr>
              <a:t>unter 18 Jah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hteck 27"/>
          <p:cNvSpPr/>
          <p:nvPr/>
        </p:nvSpPr>
        <p:spPr>
          <a:xfrm>
            <a:off x="6267600" y="3213000"/>
            <a:ext cx="2697120" cy="576360"/>
          </a:xfrm>
          <a:prstGeom prst="rect">
            <a:avLst/>
          </a:prstGeom>
          <a:solidFill>
            <a:srgbClr val="cdcd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94488"/>
                </a:solidFill>
                <a:latin typeface="Calibri"/>
              </a:rPr>
              <a:t>mindestens 25 Werk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4" name="Gerade Verbindung mit Pfeil 28"/>
          <p:cNvCxnSpPr>
            <a:stCxn id="402" idx="3"/>
            <a:endCxn id="403" idx="1"/>
          </p:cNvCxnSpPr>
          <p:nvPr/>
        </p:nvCxnSpPr>
        <p:spPr>
          <a:xfrm>
            <a:off x="5762160" y="3499920"/>
            <a:ext cx="505800" cy="1080"/>
          </a:xfrm>
          <a:prstGeom prst="straightConnector1">
            <a:avLst/>
          </a:prstGeom>
          <a:ln w="9360">
            <a:solidFill>
              <a:srgbClr val="194488"/>
            </a:solidFill>
            <a:miter/>
            <a:tailEnd len="med" type="triangle" w="med"/>
          </a:ln>
        </p:spPr>
      </p:cxnSp>
      <p:sp>
        <p:nvSpPr>
          <p:cNvPr id="405" name="Pfeil nach rechts 3"/>
          <p:cNvSpPr/>
          <p:nvPr/>
        </p:nvSpPr>
        <p:spPr>
          <a:xfrm>
            <a:off x="2987640" y="2444760"/>
            <a:ext cx="936720" cy="552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Calibri"/>
              </a:rPr>
              <a:t>beach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Picture 21" descr=""/>
          <p:cNvPicPr/>
          <p:nvPr/>
        </p:nvPicPr>
        <p:blipFill>
          <a:blip r:embed="rId1"/>
          <a:stretch/>
        </p:blipFill>
        <p:spPr>
          <a:xfrm>
            <a:off x="3827520" y="4149720"/>
            <a:ext cx="4754520" cy="1871640"/>
          </a:xfrm>
          <a:prstGeom prst="rect">
            <a:avLst/>
          </a:prstGeom>
          <a:ln w="0">
            <a:noFill/>
          </a:ln>
        </p:spPr>
      </p:pic>
      <p:pic>
        <p:nvPicPr>
          <p:cNvPr id="407" name="Textfeld 1" descr=""/>
          <p:cNvPicPr/>
          <p:nvPr/>
        </p:nvPicPr>
        <p:blipFill>
          <a:blip r:embed="rId2"/>
          <a:stretch/>
        </p:blipFill>
        <p:spPr>
          <a:xfrm>
            <a:off x="8583480" y="4290840"/>
            <a:ext cx="365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Ärztliche Untersuchungen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D979-D6CD-4DF6-9EBE-D9C7F2E0FF1B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hteck 1"/>
          <p:cNvSpPr/>
          <p:nvPr/>
        </p:nvSpPr>
        <p:spPr>
          <a:xfrm>
            <a:off x="395280" y="1109520"/>
            <a:ext cx="3745080" cy="3797280"/>
          </a:xfrm>
          <a:prstGeom prst="rect">
            <a:avLst/>
          </a:prstGeom>
          <a:solidFill>
            <a:srgbClr val="f2f2f2"/>
          </a:solidFill>
          <a:ln w="9360">
            <a:solidFill>
              <a:srgbClr val="1944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lgende ärztliche Untersuchungen sind vorgeseh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or Beginn der Berufsausbild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z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or der ersten Aufnahme einer beruflichen Tätigkeit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Nach 12 (längstens 14) Monaten erfolgt eine Nachuntersuchu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hteck 2"/>
          <p:cNvSpPr/>
          <p:nvPr/>
        </p:nvSpPr>
        <p:spPr>
          <a:xfrm>
            <a:off x="5151600" y="5110200"/>
            <a:ext cx="38844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Ohne eine gültige Bescheinigung über die ärztliche Untersuchung dürf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Jugendliche nicht beschäftigt werden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3865680" y="4965840"/>
            <a:ext cx="1195200" cy="12110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814920" cy="2951280"/>
          </a:xfrm>
          <a:prstGeom prst="rect">
            <a:avLst/>
          </a:prstGeom>
          <a:ln w="0">
            <a:noFill/>
          </a:ln>
        </p:spPr>
      </p:pic>
      <p:pic>
        <p:nvPicPr>
          <p:cNvPr id="414" name="Textfeld 2" descr=""/>
          <p:cNvPicPr/>
          <p:nvPr/>
        </p:nvPicPr>
        <p:blipFill>
          <a:blip r:embed="rId3"/>
          <a:stretch/>
        </p:blipFill>
        <p:spPr>
          <a:xfrm>
            <a:off x="8461440" y="2779560"/>
            <a:ext cx="36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Beschränkungen der Aufgabenübertragung (1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7A98-11E8-48E6-AD76-BE8041E0BFD2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hteck 1"/>
          <p:cNvSpPr/>
          <p:nvPr/>
        </p:nvSpPr>
        <p:spPr>
          <a:xfrm>
            <a:off x="395280" y="1298520"/>
            <a:ext cx="4176720" cy="33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uszubildende, die das </a:t>
            </a: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18. Lebensjah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noch nicht vollendet haben, dürf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000"/>
                </a:solidFill>
                <a:latin typeface="Calibri"/>
              </a:rPr>
              <a:t>nur leichte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ätigkeiten ausführ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Calibri"/>
              </a:rPr>
              <a:t>keine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gefährlichen Arbeiten verricht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Calibri"/>
              </a:rPr>
              <a:t>keine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Akkordarbeit oder vom Arbeitstempo abhängige Tätigkeiten ausführe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Calibri"/>
              </a:rPr>
              <a:t>nicht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unter Tage arbeit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hteck 2"/>
          <p:cNvSpPr/>
          <p:nvPr/>
        </p:nvSpPr>
        <p:spPr>
          <a:xfrm>
            <a:off x="360360" y="53020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488"/>
                </a:solidFill>
                <a:latin typeface="Calibri"/>
                <a:ea typeface="Arial"/>
              </a:rPr>
              <a:t>Ausnahme</a:t>
            </a:r>
            <a:r>
              <a:rPr b="0" lang="de-DE" sz="1800" spc="-1" strike="noStrike">
                <a:solidFill>
                  <a:srgbClr val="194488"/>
                </a:solidFill>
                <a:latin typeface="Calibri"/>
                <a:ea typeface="Arial"/>
              </a:rPr>
              <a:t>: Die Tätigkeiten sind Bestandteil der Ausbild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94488"/>
                </a:solidFill>
                <a:latin typeface="Calibri"/>
                <a:ea typeface="Arial"/>
              </a:rPr>
              <a:t>und werden unter Aufsicht eines Fachkundigen verricht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11" descr=""/>
          <p:cNvPicPr/>
          <p:nvPr/>
        </p:nvPicPr>
        <p:blipFill>
          <a:blip r:embed="rId1"/>
          <a:stretch/>
        </p:blipFill>
        <p:spPr>
          <a:xfrm>
            <a:off x="4788000" y="1298520"/>
            <a:ext cx="3816360" cy="3876840"/>
          </a:xfrm>
          <a:prstGeom prst="rect">
            <a:avLst/>
          </a:prstGeom>
          <a:ln w="0">
            <a:noFill/>
          </a:ln>
        </p:spPr>
      </p:pic>
      <p:pic>
        <p:nvPicPr>
          <p:cNvPr id="420" name="Textfeld 11" descr=""/>
          <p:cNvPicPr/>
          <p:nvPr/>
        </p:nvPicPr>
        <p:blipFill>
          <a:blip r:embed="rId2"/>
          <a:stretch/>
        </p:blipFill>
        <p:spPr>
          <a:xfrm>
            <a:off x="8613720" y="3352680"/>
            <a:ext cx="365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Beschränkungen der Aufgabenübertragung (2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7771-C23F-4DFD-8FD2-889255889CEE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hteck 1"/>
          <p:cNvSpPr/>
          <p:nvPr/>
        </p:nvSpPr>
        <p:spPr>
          <a:xfrm>
            <a:off x="395280" y="1125360"/>
            <a:ext cx="3816360" cy="3934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Auszubildende, die das </a:t>
            </a:r>
            <a:r>
              <a:rPr b="1" lang="de-DE" sz="1800" spc="-1" strike="noStrike">
                <a:solidFill>
                  <a:srgbClr val="194488"/>
                </a:solidFill>
                <a:latin typeface="Calibri"/>
                <a:ea typeface="Arial"/>
              </a:rPr>
              <a:t>18. Lebensjah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noch nicht vollendet haben, dürf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keine Arbeiten ausführen, die mit Unfallgefahren verbunden sind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und von denen anzunehmen ist, dass sie wegen mangelndem Sicherheitsbewusstsein oder mangelnder Erfahrung nicht erkannt oder aber nicht abgewendet werden könn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Auch dürfen von den Arbeiten keine sittlichen Gefahren ausgeh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hteck 3"/>
          <p:cNvSpPr/>
          <p:nvPr/>
        </p:nvSpPr>
        <p:spPr>
          <a:xfrm>
            <a:off x="5292720" y="1136520"/>
            <a:ext cx="3240000" cy="4216680"/>
          </a:xfrm>
          <a:prstGeom prst="rect">
            <a:avLst/>
          </a:prstGeom>
          <a:solidFill>
            <a:srgbClr val="f2f2f2"/>
          </a:solidFill>
          <a:ln w="9360">
            <a:solidFill>
              <a:srgbClr val="1944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iermit sind beispielsweise geme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dienen, Reinigen oder Instandhalten von Maschinen der Nahrungsmittel-, Fleischverarbeitungs- oder Holzverarbeitungsbranc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hren von Kranen, Flurförderzeugen, Hebezeugen oder Baumaschin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errichten von Schweiß- oder Schneidarbeit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ätigkeiten, von denen eine besondere Sorgfaltspflicht gegenüber Dritten ausgeht, z. B. als Sicherungspost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4051440" y="5014800"/>
            <a:ext cx="1190520" cy="1206720"/>
          </a:xfrm>
          <a:prstGeom prst="rect">
            <a:avLst/>
          </a:prstGeom>
          <a:ln w="0">
            <a:noFill/>
          </a:ln>
        </p:spPr>
      </p:pic>
      <p:sp>
        <p:nvSpPr>
          <p:cNvPr id="426" name="Pfeil nach rechts 1"/>
          <p:cNvSpPr/>
          <p:nvPr/>
        </p:nvSpPr>
        <p:spPr>
          <a:xfrm>
            <a:off x="4033800" y="2565360"/>
            <a:ext cx="1225440" cy="7034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19448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Beispi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Beschränkungen der Aufgabenübertragung (3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C40C-6364-463E-AC29-81DBB6DD788F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hteck 1"/>
          <p:cNvSpPr/>
          <p:nvPr/>
        </p:nvSpPr>
        <p:spPr>
          <a:xfrm>
            <a:off x="395280" y="1125360"/>
            <a:ext cx="4608360" cy="3934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uszubildende, die das </a:t>
            </a:r>
            <a:r>
              <a:rPr b="1" lang="de-DE" sz="1800" spc="-1" strike="noStrike">
                <a:solidFill>
                  <a:srgbClr val="194488"/>
                </a:solidFill>
                <a:latin typeface="Calibri"/>
              </a:rPr>
              <a:t>18. Lebensjahr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noch nicht vollendet haben, dürf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rbeiten, bei denen ihre Gesundheit durch außergewöhnliche Hitze oder Kälte oder starke Nässe gefährdet wir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rbeiten, bei denen sie schädlichen Einwirkungen von Lärm, Erschütterungen oder Strahlen ausgesetzt sin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Calibri"/>
              </a:rPr>
              <a:t>nicht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verricht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6280200" y="3716280"/>
            <a:ext cx="21128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Beschränkungen der Aufgabenübertragung (4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7406-654C-4BF5-A575-F04BFF87B2FC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hteck 1"/>
          <p:cNvSpPr/>
          <p:nvPr/>
        </p:nvSpPr>
        <p:spPr>
          <a:xfrm>
            <a:off x="395280" y="1125360"/>
            <a:ext cx="5761080" cy="352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eiterhin </a:t>
            </a:r>
            <a:r>
              <a:rPr b="1" lang="de-DE" sz="1800" spc="-1" strike="noStrike">
                <a:solidFill>
                  <a:srgbClr val="ff0000"/>
                </a:solidFill>
                <a:latin typeface="Calibri"/>
              </a:rPr>
              <a:t>nicht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zulässig sin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r Umgang mit gefährlichen chemischen Stoffe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r Umgang mit gefährlichen biologischen Stoff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rbeiten in engen Räum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rbeiten mit Druckluf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eben und Tra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– über 10 kg (weibliche Jugendliche)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– über 20 kg (männliche Jugendlich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330960" y="3716280"/>
            <a:ext cx="2116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Gefährdungen vermeiden (1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5E25-A082-4A14-B4BD-6F4DF784CB13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86080" y="1413000"/>
            <a:ext cx="527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257400">
              <a:buClr>
                <a:srgbClr val="194488"/>
              </a:buClr>
              <a:buFont typeface="Wingdings" charset="2"/>
              <a:buChar char="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ür sich selbst u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8840" indent="-257400">
              <a:buClr>
                <a:srgbClr val="194488"/>
              </a:buClr>
              <a:buFont typeface="Wingdings" charset="2"/>
              <a:buChar char="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ür Kollege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von Ihrer Arbeit betroffen si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8840" indent="-257400">
              <a:buClr>
                <a:srgbClr val="194488"/>
              </a:buClr>
              <a:buFont typeface="Wingdings" charset="2"/>
              <a:buChar char="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8840" indent="-257400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ach Ihren Möglichkeiten für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–   Sicherheit und Gesundheit bei der 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rbeit zu sorg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w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8840" indent="-257400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–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emäß der Unterweisung und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eisung des Arbeitgebers zu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andel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8840" indent="-257400">
              <a:buClr>
                <a:srgbClr val="194488"/>
              </a:buClr>
              <a:buFont typeface="Wingdings" charset="2"/>
              <a:buChar char="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71520" y="138276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Arial"/>
              </a:rPr>
              <a:t>Sie sind </a:t>
            </a:r>
            <a:r>
              <a:rPr b="0" lang="de-DE" sz="2400" spc="-1" strike="noStrike">
                <a:solidFill>
                  <a:srgbClr val="1f497d"/>
                </a:solidFill>
                <a:latin typeface="Calibri"/>
                <a:ea typeface="Arial"/>
              </a:rPr>
              <a:t>verpflichtet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1044720" y="2997360"/>
            <a:ext cx="170316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Gefährdungen vermeiden (2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FFF9-B74E-4196-A2C4-171BEF018FFA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348000" y="1268280"/>
            <a:ext cx="5276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6820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aschine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26820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erät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26820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erkzeug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26820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rbeitsstoff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26820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ransportmittel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u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26820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nstige Arbeitsmittel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26820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chutzvorrichtun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26820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zur Verfügung gestellte P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26820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estimmungsgemäß zu verwen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380880" y="12682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Arial"/>
              </a:rPr>
              <a:t>Sie haben </a:t>
            </a:r>
            <a:r>
              <a:rPr b="0" lang="de-DE" sz="2400" spc="-1" strike="noStrike">
                <a:solidFill>
                  <a:srgbClr val="1f497d"/>
                </a:solidFill>
                <a:latin typeface="Calibri"/>
                <a:ea typeface="Arial"/>
              </a:rPr>
              <a:t>insbesond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1044720" y="2997360"/>
            <a:ext cx="1703160" cy="1703160"/>
          </a:xfrm>
          <a:prstGeom prst="rect">
            <a:avLst/>
          </a:prstGeom>
          <a:ln w="0">
            <a:noFill/>
          </a:ln>
        </p:spPr>
      </p:pic>
      <p:sp>
        <p:nvSpPr>
          <p:cNvPr id="445" name="Line 9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Line 10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Inhalte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5280" y="1125000"/>
            <a:ext cx="4105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hre Ansprech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ichtige Standorte und Rufnumm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flichten Auszubilde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rbeitszeit-, Pausenregelun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reistellung für Berufsschule und Prüfun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rlaubsregelun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Ärztliche Untersuc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eschränkungen der Aufgabenübertrag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D583-57EA-4F75-8F69-1432D35C6EF4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Inhaltsplatzhalter 2"/>
          <p:cNvSpPr/>
          <p:nvPr/>
        </p:nvSpPr>
        <p:spPr>
          <a:xfrm>
            <a:off x="4859280" y="1125360"/>
            <a:ext cx="41148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Gefährdungen vermei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Festgestellte Mäng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Zutritts- und Aufenthaltsverbo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Allgemeine Hinweise und Verhaltensregel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Erlaubnissche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Persönliche Schutzausrüst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Kennzei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Verhalten bei Arbeitsunfä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Verhalten im Brandf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Meldewege beim Unf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Festgestellte Mängel (1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Beseitigen Sie Mängel und Gefahren </a:t>
            </a:r>
            <a:r>
              <a:rPr b="1" lang="de-DE" sz="2800" spc="-1" strike="noStrike">
                <a:solidFill>
                  <a:srgbClr val="ff0000"/>
                </a:solidFill>
                <a:latin typeface="Calibri"/>
                <a:ea typeface="Arial"/>
              </a:rPr>
              <a:t>sofort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 wen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Sie über die notwendige Fachkunde verfüge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sonst sind festgestellte Mängel und Gefahr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alibri"/>
                <a:ea typeface="Arial"/>
              </a:rPr>
              <a:t>unverzüglich zu melde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spcBef>
                <a:spcPts val="70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8EE2-01BD-4B17-9FF8-8501E4722374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Festgestellte Mängel (2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F46A-7E0D-4DEB-AB04-CA9EB5B1887E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feld 5"/>
          <p:cNvSpPr/>
          <p:nvPr/>
        </p:nvSpPr>
        <p:spPr>
          <a:xfrm>
            <a:off x="395280" y="1125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  <a:ea typeface="Arial"/>
              </a:rPr>
              <a:t>Festgestellte Mängel oder Gefahren können s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hteck 7"/>
          <p:cNvSpPr/>
          <p:nvPr/>
        </p:nvSpPr>
        <p:spPr>
          <a:xfrm>
            <a:off x="468360" y="1773360"/>
            <a:ext cx="8496360" cy="410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612360" y="4113360"/>
            <a:ext cx="220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  <a:ea typeface="Arial"/>
              </a:rPr>
              <a:t>Defekte Arbeits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  <a:ea typeface="Arial"/>
              </a:rPr>
              <a:t>oder Transport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  <a:ea typeface="Arial"/>
              </a:rPr>
              <a:t>mitt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3564720" y="4076640"/>
            <a:ext cx="189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  <a:ea typeface="Arial"/>
              </a:rPr>
              <a:t>Absturz- und</a:t>
            </a:r>
            <a:br>
              <a:rPr sz="2400"/>
            </a:br>
            <a:r>
              <a:rPr b="0" lang="de-DE" sz="2400" spc="-1" strike="noStrike">
                <a:solidFill>
                  <a:srgbClr val="194488"/>
                </a:solidFill>
                <a:latin typeface="Calibri"/>
                <a:ea typeface="Arial"/>
              </a:rPr>
              <a:t>Stolper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6157440" y="4149720"/>
            <a:ext cx="236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  <a:ea typeface="Arial"/>
              </a:rPr>
              <a:t>Zugestell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  <a:ea typeface="Arial"/>
              </a:rPr>
              <a:t>Noteinrichtu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Gruppieren 2"/>
          <p:cNvGrpSpPr/>
          <p:nvPr/>
        </p:nvGrpSpPr>
        <p:grpSpPr>
          <a:xfrm>
            <a:off x="539640" y="2276640"/>
            <a:ext cx="2686320" cy="1655640"/>
            <a:chOff x="539640" y="2276640"/>
            <a:chExt cx="2686320" cy="1655640"/>
          </a:xfrm>
        </p:grpSpPr>
        <p:pic>
          <p:nvPicPr>
            <p:cNvPr id="458" name="Picture 51" descr=""/>
            <p:cNvPicPr/>
            <p:nvPr/>
          </p:nvPicPr>
          <p:blipFill>
            <a:blip r:embed="rId1"/>
            <a:stretch/>
          </p:blipFill>
          <p:spPr>
            <a:xfrm>
              <a:off x="539640" y="2276640"/>
              <a:ext cx="259308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Grafik 1" descr=""/>
            <p:cNvPicPr/>
            <p:nvPr/>
          </p:nvPicPr>
          <p:blipFill>
            <a:blip r:embed="rId2"/>
            <a:stretch/>
          </p:blipFill>
          <p:spPr>
            <a:xfrm>
              <a:off x="2177640" y="2575440"/>
              <a:ext cx="1048320" cy="104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0" name="Gruppieren 4"/>
          <p:cNvGrpSpPr/>
          <p:nvPr/>
        </p:nvGrpSpPr>
        <p:grpSpPr>
          <a:xfrm>
            <a:off x="3203640" y="2276640"/>
            <a:ext cx="2766960" cy="1643040"/>
            <a:chOff x="3203640" y="2276640"/>
            <a:chExt cx="2766960" cy="1643040"/>
          </a:xfrm>
        </p:grpSpPr>
        <p:pic>
          <p:nvPicPr>
            <p:cNvPr id="461" name="Picture 50" descr=""/>
            <p:cNvPicPr/>
            <p:nvPr/>
          </p:nvPicPr>
          <p:blipFill>
            <a:blip r:embed="rId3"/>
            <a:stretch/>
          </p:blipFill>
          <p:spPr>
            <a:xfrm>
              <a:off x="3203640" y="2276640"/>
              <a:ext cx="273564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Grafik 3" descr=""/>
            <p:cNvPicPr/>
            <p:nvPr/>
          </p:nvPicPr>
          <p:blipFill>
            <a:blip r:embed="rId4"/>
            <a:stretch/>
          </p:blipFill>
          <p:spPr>
            <a:xfrm>
              <a:off x="4957920" y="2637000"/>
              <a:ext cx="1012680" cy="101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3" name="Gruppieren 9"/>
          <p:cNvGrpSpPr/>
          <p:nvPr/>
        </p:nvGrpSpPr>
        <p:grpSpPr>
          <a:xfrm>
            <a:off x="6012000" y="2276640"/>
            <a:ext cx="2736720" cy="1658880"/>
            <a:chOff x="6012000" y="2276640"/>
            <a:chExt cx="2736720" cy="1658880"/>
          </a:xfrm>
        </p:grpSpPr>
        <p:grpSp>
          <p:nvGrpSpPr>
            <p:cNvPr id="464" name="Gruppieren 6"/>
            <p:cNvGrpSpPr/>
            <p:nvPr/>
          </p:nvGrpSpPr>
          <p:grpSpPr>
            <a:xfrm>
              <a:off x="6012000" y="2276640"/>
              <a:ext cx="2736720" cy="1658880"/>
              <a:chOff x="6012000" y="2276640"/>
              <a:chExt cx="2736720" cy="1658880"/>
            </a:xfrm>
          </p:grpSpPr>
          <p:pic>
            <p:nvPicPr>
              <p:cNvPr id="465" name="Picture 49" descr=""/>
              <p:cNvPicPr/>
              <p:nvPr/>
            </p:nvPicPr>
            <p:blipFill>
              <a:blip r:embed="rId5"/>
              <a:stretch/>
            </p:blipFill>
            <p:spPr>
              <a:xfrm>
                <a:off x="6012000" y="2276640"/>
                <a:ext cx="2736720" cy="165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Grafik 5" descr=""/>
              <p:cNvPicPr/>
              <p:nvPr/>
            </p:nvPicPr>
            <p:blipFill>
              <a:blip r:embed="rId6"/>
              <a:stretch/>
            </p:blipFill>
            <p:spPr>
              <a:xfrm>
                <a:off x="7797600" y="2637000"/>
                <a:ext cx="951120" cy="951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7" name="Grafik 8" descr=""/>
            <p:cNvPicPr/>
            <p:nvPr/>
          </p:nvPicPr>
          <p:blipFill>
            <a:blip r:embed="rId7"/>
            <a:stretch/>
          </p:blipFill>
          <p:spPr>
            <a:xfrm>
              <a:off x="6297840" y="2592000"/>
              <a:ext cx="359640" cy="3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Zutritts- und Aufenthaltsverbote (1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95280" y="126792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e dürfen sich nicht an gefährlichen Stellen aufhalten, insbesondere nich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DA5D-9F3E-46CE-94BF-8604E2C023F4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hteck 5"/>
          <p:cNvSpPr/>
          <p:nvPr/>
        </p:nvSpPr>
        <p:spPr>
          <a:xfrm>
            <a:off x="468360" y="2276640"/>
            <a:ext cx="8280360" cy="23047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in unübersichtlichen Verkehrs- und </a:t>
            </a:r>
            <a:br>
              <a:rPr sz="2400"/>
            </a:b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Transportbereichen,</a:t>
            </a:r>
            <a:br>
              <a:rPr sz="2400"/>
            </a:b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unter schwebenden Las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6080040" y="2378160"/>
            <a:ext cx="1015920" cy="10144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" descr=""/>
          <p:cNvPicPr/>
          <p:nvPr/>
        </p:nvPicPr>
        <p:blipFill>
          <a:blip r:embed="rId2"/>
          <a:stretch/>
        </p:blipFill>
        <p:spPr>
          <a:xfrm>
            <a:off x="6093000" y="3449520"/>
            <a:ext cx="1062000" cy="10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Zutritts- und Aufenthaltsverbote (2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5280" y="126792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e dürf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27F4-540A-4163-97AF-BEA660F8195A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hteck 5"/>
          <p:cNvSpPr/>
          <p:nvPr/>
        </p:nvSpPr>
        <p:spPr>
          <a:xfrm>
            <a:off x="468360" y="2060640"/>
            <a:ext cx="8136000" cy="35290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Einrichtungen nicht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unbefugt</a:t>
            </a: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betreten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Betriebsteile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nicht betreten</a:t>
            </a: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, wenn </a:t>
            </a:r>
            <a:br>
              <a:rPr sz="2400"/>
            </a:b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dadurch eine Gefahr für andere </a:t>
            </a:r>
            <a:br>
              <a:rPr sz="2400"/>
            </a:b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Beschäftigte entste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Oval 16"/>
          <p:cNvSpPr/>
          <p:nvPr/>
        </p:nvSpPr>
        <p:spPr>
          <a:xfrm>
            <a:off x="6804000" y="2276640"/>
            <a:ext cx="1081080" cy="10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6746760" y="2205000"/>
            <a:ext cx="1195560" cy="1211400"/>
          </a:xfrm>
          <a:prstGeom prst="rect">
            <a:avLst/>
          </a:prstGeom>
          <a:ln w="0">
            <a:noFill/>
          </a:ln>
        </p:spPr>
      </p:pic>
      <p:grpSp>
        <p:nvGrpSpPr>
          <p:cNvPr id="480" name="Gruppieren 2"/>
          <p:cNvGrpSpPr/>
          <p:nvPr/>
        </p:nvGrpSpPr>
        <p:grpSpPr>
          <a:xfrm>
            <a:off x="5651640" y="3645000"/>
            <a:ext cx="2914560" cy="1774800"/>
            <a:chOff x="5651640" y="3645000"/>
            <a:chExt cx="2914560" cy="1774800"/>
          </a:xfrm>
        </p:grpSpPr>
        <p:pic>
          <p:nvPicPr>
            <p:cNvPr id="481" name="Picture 17" descr=""/>
            <p:cNvPicPr/>
            <p:nvPr/>
          </p:nvPicPr>
          <p:blipFill>
            <a:blip r:embed="rId2"/>
            <a:stretch/>
          </p:blipFill>
          <p:spPr>
            <a:xfrm>
              <a:off x="5651640" y="3645000"/>
              <a:ext cx="280764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Grafik 1" descr=""/>
            <p:cNvPicPr/>
            <p:nvPr/>
          </p:nvPicPr>
          <p:blipFill>
            <a:blip r:embed="rId3"/>
            <a:stretch/>
          </p:blipFill>
          <p:spPr>
            <a:xfrm>
              <a:off x="7515360" y="3999600"/>
              <a:ext cx="1050840" cy="106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Zutritts- und Aufenthaltsverbote (3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5675-05BB-4D4E-91D1-4689DE74E979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hteck 6"/>
          <p:cNvSpPr/>
          <p:nvPr/>
        </p:nvSpPr>
        <p:spPr>
          <a:xfrm>
            <a:off x="395280" y="1413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Arial"/>
              </a:rPr>
              <a:t>Sie dürfen sich nicht an gefährlichen und so gekennzeichneten Orten aufhalten, insbesondere nicht in Gefahrenbereich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feld 8"/>
          <p:cNvSpPr/>
          <p:nvPr/>
        </p:nvSpPr>
        <p:spPr>
          <a:xfrm>
            <a:off x="468360" y="249228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  <a:ea typeface="Arial"/>
              </a:rPr>
              <a:t>Typische Kennzeichnung solcher Gefahrenbereich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hteck 12"/>
          <p:cNvSpPr/>
          <p:nvPr/>
        </p:nvSpPr>
        <p:spPr>
          <a:xfrm>
            <a:off x="504720" y="4221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Arial"/>
              </a:rPr>
              <a:t>Gelb-schwarze und rot-weiße Streifen sowie durch Ketten und Hinweisschilder markierte Gefahrenbereiche dienen der Absperru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0" descr=""/>
          <p:cNvPicPr/>
          <p:nvPr/>
        </p:nvPicPr>
        <p:blipFill>
          <a:blip r:embed="rId1"/>
          <a:stretch/>
        </p:blipFill>
        <p:spPr>
          <a:xfrm>
            <a:off x="4859280" y="4332240"/>
            <a:ext cx="3529080" cy="1225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" descr=""/>
          <p:cNvPicPr/>
          <p:nvPr/>
        </p:nvPicPr>
        <p:blipFill>
          <a:blip r:embed="rId2"/>
          <a:stretch/>
        </p:blipFill>
        <p:spPr>
          <a:xfrm>
            <a:off x="4900680" y="3195720"/>
            <a:ext cx="3416400" cy="5713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"/>
          <p:cNvPicPr/>
          <p:nvPr/>
        </p:nvPicPr>
        <p:blipFill>
          <a:blip r:embed="rId3"/>
          <a:stretch/>
        </p:blipFill>
        <p:spPr>
          <a:xfrm>
            <a:off x="4870440" y="2365200"/>
            <a:ext cx="344664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Allgemeine Hinweise und Verhaltensregeln (1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7C91-CECB-41F8-AA23-C6A247FCE6FC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324000" y="1125360"/>
            <a:ext cx="6054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Geeignete Arbeitsbekleidung und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-schuhe tra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Verkehrswege ständig frei hal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Verkehrs- und Rettungswege nicht verstel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Stolperstellen beseiti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Arial"/>
              </a:rPr>
              <a:t>Störungen und Mängel sofort mel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Allgemeine Hinweise und Verhaltensregeln (2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7476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Der Genuss von </a:t>
            </a: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Alkohol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bewusstseinsverändernden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Substanzen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 bzw. Tätigkeiten unter deren Einfluss sind untersagt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Rauchen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 ist nur in gekennzeichneten Bereichen gestattet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Maschinen dürfen </a:t>
            </a: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erst nach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Ein- bzw. Unterweisung bedient werden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Krane und Flurförderfahrzeuge dürfen nur mit gültigem </a:t>
            </a: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Befähigungsnachweis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 bedient werden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An Produktionsanlagen </a:t>
            </a: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darf nur nach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Freigabe gearbeitet werden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4872-13D1-40C0-B6B3-DCEBCF0CAD89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Erlaubnisscheine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94920" y="981000"/>
            <a:ext cx="52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Für folgende Tätigkeiten benötigen Sie einen Erlaubnissche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90000"/>
              </a:lnSpc>
              <a:spcBef>
                <a:spcPts val="55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in Behältern und engen Räu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90000"/>
              </a:lnSpc>
              <a:spcBef>
                <a:spcPts val="55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Schweiß-, Schneid-, Trennschleif-, Brenn- und Lötarbei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90000"/>
              </a:lnSpc>
              <a:spcBef>
                <a:spcPts val="55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insteigen in Silos/Gruben zur Restentleeru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90000"/>
              </a:lnSpc>
              <a:spcBef>
                <a:spcPts val="55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in explosionsgefährdeten Bereich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90000"/>
              </a:lnSpc>
              <a:spcBef>
                <a:spcPts val="55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an Leitungen mit Gefahrstoffen und heißen Medi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90000"/>
              </a:lnSpc>
              <a:spcBef>
                <a:spcPts val="24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94488"/>
                </a:solidFill>
                <a:latin typeface="Calibri"/>
              </a:rPr>
              <a:t>Grundsätzlich darf davon ausgegangen werden, dass für diese Tätigkeiten das 18. Lebensjahr vollendet sein mu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CDA5-6989-4628-8979-0500894473B9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2" descr="http://www.bge.de/bge/m19/bild31.gif"/>
          <p:cNvPicPr/>
          <p:nvPr/>
        </p:nvPicPr>
        <p:blipFill>
          <a:blip r:embed="rId1"/>
          <a:stretch/>
        </p:blipFill>
        <p:spPr>
          <a:xfrm>
            <a:off x="5796000" y="1484280"/>
            <a:ext cx="2816280" cy="41767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2"/>
          <p:cNvSpPr/>
          <p:nvPr/>
        </p:nvSpPr>
        <p:spPr>
          <a:xfrm>
            <a:off x="5704560" y="5700600"/>
            <a:ext cx="85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Arial"/>
              </a:rPr>
              <a:t>Quelle: B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Grafik 3" descr=""/>
          <p:cNvPicPr/>
          <p:nvPr/>
        </p:nvPicPr>
        <p:blipFill>
          <a:blip r:embed="rId1"/>
          <a:stretch/>
        </p:blipFill>
        <p:spPr>
          <a:xfrm>
            <a:off x="3422520" y="198900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Persönliche Schutzausrüstung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E87D-CF3B-406D-A12C-65F2E6AAEF64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hteck 5"/>
          <p:cNvSpPr/>
          <p:nvPr/>
        </p:nvSpPr>
        <p:spPr>
          <a:xfrm>
            <a:off x="384120" y="1197000"/>
            <a:ext cx="84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hnen wird die folgende  individuell passende PSA zur alleinigen Nutzung zur Verfügung gestell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hteck 8"/>
          <p:cNvSpPr/>
          <p:nvPr/>
        </p:nvSpPr>
        <p:spPr>
          <a:xfrm>
            <a:off x="414360" y="4869000"/>
            <a:ext cx="83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Durch Wartungs-, Reparatur- und Ersatzmaßnahmen sowie durch ordnungsgemäße Lagerung trägt der Arbeitgeber dafür Sorge, dass die PSA während der gesamten Benutzungsdauer gut funktioniert und sich in einem hygienisch einwandfreien Zustand befind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llipse 9"/>
          <p:cNvSpPr/>
          <p:nvPr/>
        </p:nvSpPr>
        <p:spPr>
          <a:xfrm>
            <a:off x="7721640" y="3213000"/>
            <a:ext cx="1098360" cy="11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feld 10"/>
          <p:cNvSpPr/>
          <p:nvPr/>
        </p:nvSpPr>
        <p:spPr>
          <a:xfrm>
            <a:off x="7744680" y="3300480"/>
            <a:ext cx="10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z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nutze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P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Ellipse 22"/>
          <p:cNvSpPr/>
          <p:nvPr/>
        </p:nvSpPr>
        <p:spPr>
          <a:xfrm>
            <a:off x="3319560" y="1916280"/>
            <a:ext cx="1268280" cy="122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Grafik 1" descr=""/>
          <p:cNvPicPr/>
          <p:nvPr/>
        </p:nvPicPr>
        <p:blipFill>
          <a:blip r:embed="rId2"/>
          <a:stretch/>
        </p:blipFill>
        <p:spPr>
          <a:xfrm>
            <a:off x="428760" y="191772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11" name="Grafik 2" descr=""/>
          <p:cNvPicPr/>
          <p:nvPr/>
        </p:nvPicPr>
        <p:blipFill>
          <a:blip r:embed="rId3"/>
          <a:stretch/>
        </p:blipFill>
        <p:spPr>
          <a:xfrm>
            <a:off x="1849320" y="195264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512" name="Grafik 4" descr=""/>
          <p:cNvPicPr/>
          <p:nvPr/>
        </p:nvPicPr>
        <p:blipFill>
          <a:blip r:embed="rId4"/>
          <a:stretch/>
        </p:blipFill>
        <p:spPr>
          <a:xfrm>
            <a:off x="4870440" y="195264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513" name="Grafik 5" descr=""/>
          <p:cNvPicPr/>
          <p:nvPr/>
        </p:nvPicPr>
        <p:blipFill>
          <a:blip r:embed="rId5"/>
          <a:stretch/>
        </p:blipFill>
        <p:spPr>
          <a:xfrm>
            <a:off x="6318360" y="198900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514" name="Grafik 6" descr=""/>
          <p:cNvPicPr/>
          <p:nvPr/>
        </p:nvPicPr>
        <p:blipFill>
          <a:blip r:embed="rId6"/>
          <a:stretch/>
        </p:blipFill>
        <p:spPr>
          <a:xfrm>
            <a:off x="7716960" y="1952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15" name="Grafik 7" descr=""/>
          <p:cNvPicPr/>
          <p:nvPr/>
        </p:nvPicPr>
        <p:blipFill>
          <a:blip r:embed="rId7"/>
          <a:stretch/>
        </p:blipFill>
        <p:spPr>
          <a:xfrm>
            <a:off x="428760" y="328464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16" name="Grafik 8" descr=""/>
          <p:cNvPicPr/>
          <p:nvPr/>
        </p:nvPicPr>
        <p:blipFill>
          <a:blip r:embed="rId8"/>
          <a:stretch/>
        </p:blipFill>
        <p:spPr>
          <a:xfrm>
            <a:off x="1849320" y="328608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517" name="Grafik 10" descr=""/>
          <p:cNvPicPr/>
          <p:nvPr/>
        </p:nvPicPr>
        <p:blipFill>
          <a:blip r:embed="rId9"/>
          <a:stretch/>
        </p:blipFill>
        <p:spPr>
          <a:xfrm>
            <a:off x="3413160" y="329724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518" name="Grafik 11" descr=""/>
          <p:cNvPicPr/>
          <p:nvPr/>
        </p:nvPicPr>
        <p:blipFill>
          <a:blip r:embed="rId10"/>
          <a:stretch/>
        </p:blipFill>
        <p:spPr>
          <a:xfrm>
            <a:off x="4870440" y="329724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519" name="Grafik 12" descr=""/>
          <p:cNvPicPr/>
          <p:nvPr/>
        </p:nvPicPr>
        <p:blipFill>
          <a:blip r:embed="rId11"/>
          <a:stretch/>
        </p:blipFill>
        <p:spPr>
          <a:xfrm>
            <a:off x="6318360" y="328608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Kennzeichnungen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355C-9E8A-41B5-A487-83FFEC665B63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hteck 5"/>
          <p:cNvSpPr/>
          <p:nvPr/>
        </p:nvSpPr>
        <p:spPr>
          <a:xfrm>
            <a:off x="395280" y="1341360"/>
            <a:ext cx="4537080" cy="33829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Kennzeichnungen im Betrieb sind notwendig, vorgeschrieben und müssen von Ihnen beachtet werden. </a:t>
            </a:r>
            <a:br>
              <a:rPr sz="2400"/>
            </a:b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Sie zeigen allgemeine und besondere Gefahren an sowie Hinweise, Gebote und Verbote. </a:t>
            </a:r>
            <a:br>
              <a:rPr sz="2400"/>
            </a:b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19"/>
          <p:cNvSpPr/>
          <p:nvPr/>
        </p:nvSpPr>
        <p:spPr>
          <a:xfrm>
            <a:off x="5219640" y="12682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Farbe und Form bestimmen die Grundaussag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Ellipse 33"/>
          <p:cNvSpPr/>
          <p:nvPr/>
        </p:nvSpPr>
        <p:spPr>
          <a:xfrm>
            <a:off x="5372280" y="1989000"/>
            <a:ext cx="720720" cy="7192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Gleichschenkliges Dreieck 34"/>
          <p:cNvSpPr/>
          <p:nvPr/>
        </p:nvSpPr>
        <p:spPr>
          <a:xfrm>
            <a:off x="5372280" y="2792520"/>
            <a:ext cx="720720" cy="718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llipse 35"/>
          <p:cNvSpPr/>
          <p:nvPr/>
        </p:nvSpPr>
        <p:spPr>
          <a:xfrm>
            <a:off x="5372280" y="3632040"/>
            <a:ext cx="720720" cy="719280"/>
          </a:xfrm>
          <a:prstGeom prst="ellipse">
            <a:avLst/>
          </a:prstGeom>
          <a:solidFill>
            <a:srgbClr val="0066ff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hteck 36"/>
          <p:cNvSpPr/>
          <p:nvPr/>
        </p:nvSpPr>
        <p:spPr>
          <a:xfrm>
            <a:off x="5372280" y="4508640"/>
            <a:ext cx="720720" cy="720720"/>
          </a:xfrm>
          <a:prstGeom prst="rect">
            <a:avLst/>
          </a:prstGeom>
          <a:solidFill>
            <a:srgbClr val="009900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hteck 37"/>
          <p:cNvSpPr/>
          <p:nvPr/>
        </p:nvSpPr>
        <p:spPr>
          <a:xfrm>
            <a:off x="5372280" y="5373720"/>
            <a:ext cx="720720" cy="719280"/>
          </a:xfrm>
          <a:prstGeom prst="rect">
            <a:avLst/>
          </a:prstGeom>
          <a:solidFill>
            <a:srgbClr val="ff0000"/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feld 38"/>
          <p:cNvSpPr/>
          <p:nvPr/>
        </p:nvSpPr>
        <p:spPr>
          <a:xfrm>
            <a:off x="6227640" y="21636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Verbotszeic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feld 39"/>
          <p:cNvSpPr/>
          <p:nvPr/>
        </p:nvSpPr>
        <p:spPr>
          <a:xfrm>
            <a:off x="6232680" y="29671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Warnzeic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feld 40"/>
          <p:cNvSpPr/>
          <p:nvPr/>
        </p:nvSpPr>
        <p:spPr>
          <a:xfrm>
            <a:off x="6227640" y="380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Gebotszeic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feld 41"/>
          <p:cNvSpPr/>
          <p:nvPr/>
        </p:nvSpPr>
        <p:spPr>
          <a:xfrm>
            <a:off x="6227640" y="46846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Rettungszeic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feld 42"/>
          <p:cNvSpPr/>
          <p:nvPr/>
        </p:nvSpPr>
        <p:spPr>
          <a:xfrm>
            <a:off x="6227640" y="55483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Brandschutzzeic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Wichtige Ansprechpartner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8A6A-949D-420D-9028-13B70C32462A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79280" y="1428840"/>
          <a:ext cx="8785440" cy="4093920"/>
        </p:xfrm>
        <a:graphic>
          <a:graphicData uri="http://schemas.openxmlformats.org/drawingml/2006/table">
            <a:tbl>
              <a:tblPr/>
              <a:tblGrid>
                <a:gridCol w="2808360"/>
                <a:gridCol w="2952720"/>
                <a:gridCol w="1584360"/>
                <a:gridCol w="1440000"/>
              </a:tblGrid>
              <a:tr h="482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ef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kleiter/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enz/Sekretar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iebsarzt/-ärz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hkraft für Arbeitssicherh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rgesetzte/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sthelfer/in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cherheitsbeauftragte/r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äumungsbeauftragte/r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39" name="Textfeld 15"/>
          <p:cNvSpPr/>
          <p:nvPr/>
        </p:nvSpPr>
        <p:spPr>
          <a:xfrm>
            <a:off x="179280" y="5661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* im Bere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Richtiges Verhalten bei Arbeitsunfällen (1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9528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Sofortmaßnahm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Unterbrich die Arbei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eiste Erste Hilf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nach Notwendigkei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tze ggf. einen Notruf ab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elde den Arbeitsunfall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umgehend dem Vorgesetzten!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AE11-5563-4E47-8783-07CBFE10A045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5797440" y="2908440"/>
            <a:ext cx="2554560" cy="2554200"/>
          </a:xfrm>
          <a:prstGeom prst="rect">
            <a:avLst/>
          </a:prstGeom>
          <a:ln w="0">
            <a:noFill/>
          </a:ln>
        </p:spPr>
      </p:pic>
      <p:pic>
        <p:nvPicPr>
          <p:cNvPr id="538" name="Rechteck 6" descr=""/>
          <p:cNvPicPr/>
          <p:nvPr/>
        </p:nvPicPr>
        <p:blipFill>
          <a:blip r:embed="rId2"/>
          <a:stretch/>
        </p:blipFill>
        <p:spPr>
          <a:xfrm>
            <a:off x="4816440" y="2693880"/>
            <a:ext cx="766800" cy="2981520"/>
          </a:xfrm>
          <a:prstGeom prst="rect">
            <a:avLst/>
          </a:prstGeom>
          <a:ln w="0">
            <a:noFill/>
          </a:ln>
        </p:spPr>
      </p:pic>
      <p:sp>
        <p:nvSpPr>
          <p:cNvPr id="539" name="Textfeld 7"/>
          <p:cNvSpPr/>
          <p:nvPr/>
        </p:nvSpPr>
        <p:spPr>
          <a:xfrm>
            <a:off x="5543640" y="2761200"/>
            <a:ext cx="2989080" cy="39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Calibri"/>
                <a:ea typeface="Arial"/>
              </a:rPr>
              <a:t>WAS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 ist passier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feld 11"/>
          <p:cNvSpPr/>
          <p:nvPr/>
        </p:nvSpPr>
        <p:spPr>
          <a:xfrm>
            <a:off x="5543640" y="3361320"/>
            <a:ext cx="2989080" cy="39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Calibri"/>
                <a:ea typeface="Arial"/>
              </a:rPr>
              <a:t>WO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 ist es passier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feld 12"/>
          <p:cNvSpPr/>
          <p:nvPr/>
        </p:nvSpPr>
        <p:spPr>
          <a:xfrm>
            <a:off x="5543640" y="3977280"/>
            <a:ext cx="2989080" cy="39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Calibri"/>
                <a:ea typeface="Arial"/>
              </a:rPr>
              <a:t>WIE VIELE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Verletzt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feld 13"/>
          <p:cNvSpPr/>
          <p:nvPr/>
        </p:nvSpPr>
        <p:spPr>
          <a:xfrm>
            <a:off x="5545080" y="4593240"/>
            <a:ext cx="2987640" cy="39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Calibri"/>
                <a:ea typeface="Arial"/>
              </a:rPr>
              <a:t>WELCHE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Verletzung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feld 14"/>
          <p:cNvSpPr/>
          <p:nvPr/>
        </p:nvSpPr>
        <p:spPr>
          <a:xfrm>
            <a:off x="5543640" y="5209200"/>
            <a:ext cx="2989080" cy="39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Calibri"/>
                <a:ea typeface="Arial"/>
              </a:rPr>
              <a:t>WARTEN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auf Rückfrage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feld 8"/>
          <p:cNvSpPr/>
          <p:nvPr/>
        </p:nvSpPr>
        <p:spPr>
          <a:xfrm>
            <a:off x="7074000" y="1413000"/>
            <a:ext cx="181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8000"/>
                </a:solidFill>
                <a:latin typeface="Calibri"/>
                <a:ea typeface="Arial"/>
              </a:rPr>
              <a:t>11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Grafik 1" descr=""/>
          <p:cNvPicPr/>
          <p:nvPr/>
        </p:nvPicPr>
        <p:blipFill>
          <a:blip r:embed="rId3"/>
          <a:stretch/>
        </p:blipFill>
        <p:spPr>
          <a:xfrm>
            <a:off x="4827600" y="1360440"/>
            <a:ext cx="938160" cy="936720"/>
          </a:xfrm>
          <a:prstGeom prst="rect">
            <a:avLst/>
          </a:prstGeom>
          <a:ln w="0">
            <a:noFill/>
          </a:ln>
        </p:spPr>
      </p:pic>
      <p:pic>
        <p:nvPicPr>
          <p:cNvPr id="546" name="Grafik 2" descr=""/>
          <p:cNvPicPr/>
          <p:nvPr/>
        </p:nvPicPr>
        <p:blipFill>
          <a:blip r:embed="rId4"/>
          <a:stretch/>
        </p:blipFill>
        <p:spPr>
          <a:xfrm>
            <a:off x="6099120" y="1360440"/>
            <a:ext cx="9381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2" descr=""/>
          <p:cNvPicPr/>
          <p:nvPr/>
        </p:nvPicPr>
        <p:blipFill>
          <a:blip r:embed="rId1"/>
          <a:stretch/>
        </p:blipFill>
        <p:spPr>
          <a:xfrm>
            <a:off x="7505640" y="4394160"/>
            <a:ext cx="1638360" cy="16956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Richtiges Verhalten bei Arbeitsunfällen (2)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9528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elde jeden Unfall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ährend der Arbei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f dem Weg von oder zur Arbeit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Suche den Durchgangsarzt auf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Dokumentiere den Arbeitsunfall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Unfallanzei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bandbu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64F0-7FBF-4710-BEB9-08814241F17E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 rot="1393800">
            <a:off x="6033960" y="4314960"/>
            <a:ext cx="1570320" cy="2255760"/>
          </a:xfrm>
          <a:prstGeom prst="rect">
            <a:avLst/>
          </a:prstGeom>
          <a:ln w="0">
            <a:noFill/>
          </a:ln>
        </p:spPr>
      </p:pic>
      <p:grpSp>
        <p:nvGrpSpPr>
          <p:cNvPr id="552" name="Gruppieren 12"/>
          <p:cNvGrpSpPr/>
          <p:nvPr/>
        </p:nvGrpSpPr>
        <p:grpSpPr>
          <a:xfrm>
            <a:off x="4665600" y="4325040"/>
            <a:ext cx="1973520" cy="2233440"/>
            <a:chOff x="4665600" y="4325040"/>
            <a:chExt cx="1973520" cy="2233440"/>
          </a:xfrm>
        </p:grpSpPr>
        <p:sp>
          <p:nvSpPr>
            <p:cNvPr id="553" name="Rechteck 9"/>
            <p:cNvSpPr/>
            <p:nvPr/>
          </p:nvSpPr>
          <p:spPr>
            <a:xfrm rot="20056200">
              <a:off x="5003640" y="4514400"/>
              <a:ext cx="1297080" cy="1854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9900"/>
                  </a:solidFill>
                  <a:latin typeface="Calibri"/>
                </a:rPr>
                <a:t>Verbandbuch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4" name="Picture 2" descr=""/>
            <p:cNvPicPr/>
            <p:nvPr/>
          </p:nvPicPr>
          <p:blipFill>
            <a:blip r:embed="rId3"/>
            <a:stretch/>
          </p:blipFill>
          <p:spPr>
            <a:xfrm rot="20056200">
              <a:off x="5482440" y="5419440"/>
              <a:ext cx="61164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5" name="Grafik 1" descr=""/>
          <p:cNvPicPr/>
          <p:nvPr/>
        </p:nvPicPr>
        <p:blipFill>
          <a:blip r:embed="rId4"/>
          <a:stretch/>
        </p:blipFill>
        <p:spPr>
          <a:xfrm>
            <a:off x="6237360" y="2781360"/>
            <a:ext cx="860400" cy="857160"/>
          </a:xfrm>
          <a:prstGeom prst="rect">
            <a:avLst/>
          </a:prstGeom>
          <a:ln w="0">
            <a:noFill/>
          </a:ln>
        </p:spPr>
      </p:pic>
      <p:pic>
        <p:nvPicPr>
          <p:cNvPr id="556" name="Grafik 2" descr=""/>
          <p:cNvPicPr/>
          <p:nvPr/>
        </p:nvPicPr>
        <p:blipFill>
          <a:blip r:embed="rId5"/>
          <a:stretch/>
        </p:blipFill>
        <p:spPr>
          <a:xfrm>
            <a:off x="6195960" y="163836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Erste Hilfe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95280" y="160020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bsichern der Unfallst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sorgung des Verletzten nach Notwendigk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letzten nicht allein la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pruch, Tr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Weitere Maßnah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94488"/>
                </a:solidFill>
                <a:latin typeface="Calibri"/>
              </a:rPr>
              <a:t>Rettungsdienst einwei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BF3C-8DB8-4A06-ADFC-5B24DF2F3548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2" descr="http://www.vbg.de/apl/zh/z144/erste_hilfe.gif"/>
          <p:cNvPicPr/>
          <p:nvPr/>
        </p:nvPicPr>
        <p:blipFill>
          <a:blip r:embed="rId1"/>
          <a:stretch/>
        </p:blipFill>
        <p:spPr>
          <a:xfrm>
            <a:off x="4716360" y="1268280"/>
            <a:ext cx="3156120" cy="4464360"/>
          </a:xfrm>
          <a:prstGeom prst="rect">
            <a:avLst/>
          </a:prstGeom>
          <a:ln w="0">
            <a:noFill/>
          </a:ln>
        </p:spPr>
      </p:pic>
      <p:sp>
        <p:nvSpPr>
          <p:cNvPr id="561" name="Rechteck 10"/>
          <p:cNvSpPr/>
          <p:nvPr/>
        </p:nvSpPr>
        <p:spPr>
          <a:xfrm>
            <a:off x="4717080" y="573408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Arial"/>
              </a:rPr>
              <a:t>Quelle: VB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Richtiges Verhalten bei Brandfällen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995280" y="1268280"/>
            <a:ext cx="496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efährdete Personen war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ilflose mitneh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üren schließ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ekennzeichneten Fluchtwegen folg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ammelplatz aufsuch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otruf absetz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fzüge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m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euerleitern benutz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f Anweisungen 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6A0A-9FB4-4253-A2A0-1A8755A10B3E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feld 5"/>
          <p:cNvSpPr/>
          <p:nvPr/>
        </p:nvSpPr>
        <p:spPr>
          <a:xfrm>
            <a:off x="395280" y="13003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94488"/>
                </a:solidFill>
                <a:latin typeface="Calibri"/>
                <a:ea typeface="Arial"/>
              </a:rPr>
              <a:t>Sofortmaßnah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feld 6"/>
          <p:cNvSpPr/>
          <p:nvPr/>
        </p:nvSpPr>
        <p:spPr>
          <a:xfrm>
            <a:off x="395280" y="41814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94488"/>
                </a:solidFill>
                <a:latin typeface="Calibri"/>
                <a:ea typeface="Arial"/>
              </a:rPr>
              <a:t>Wichtige Hinwe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1036" descr=""/>
          <p:cNvPicPr/>
          <p:nvPr/>
        </p:nvPicPr>
        <p:blipFill>
          <a:blip r:embed="rId1"/>
          <a:stretch/>
        </p:blipFill>
        <p:spPr>
          <a:xfrm>
            <a:off x="468360" y="48290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038" descr=""/>
          <p:cNvPicPr/>
          <p:nvPr/>
        </p:nvPicPr>
        <p:blipFill>
          <a:blip r:embed="rId2"/>
          <a:stretch/>
        </p:blipFill>
        <p:spPr>
          <a:xfrm>
            <a:off x="1776240" y="48290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3"/>
          <a:stretch/>
        </p:blipFill>
        <p:spPr>
          <a:xfrm>
            <a:off x="1776240" y="1728720"/>
            <a:ext cx="1079640" cy="10764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4"/>
          <a:stretch/>
        </p:blipFill>
        <p:spPr>
          <a:xfrm>
            <a:off x="468360" y="1728720"/>
            <a:ext cx="1079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Gerade Verbindung 61"/>
          <p:cNvSpPr/>
          <p:nvPr/>
        </p:nvSpPr>
        <p:spPr>
          <a:xfrm>
            <a:off x="2016000" y="1528920"/>
            <a:ext cx="0" cy="39891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Meldewege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AC6B-ED9D-4026-A762-B36E0351AC74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hteck 55"/>
          <p:cNvSpPr/>
          <p:nvPr/>
        </p:nvSpPr>
        <p:spPr>
          <a:xfrm>
            <a:off x="684360" y="1270080"/>
            <a:ext cx="2663640" cy="830160"/>
          </a:xfrm>
          <a:prstGeom prst="rect">
            <a:avLst/>
          </a:pr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rste Hilfe/ Betriebssanitäte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triebsarz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hteck 56"/>
          <p:cNvSpPr/>
          <p:nvPr/>
        </p:nvSpPr>
        <p:spPr>
          <a:xfrm>
            <a:off x="684360" y="2997360"/>
            <a:ext cx="2663640" cy="830160"/>
          </a:xfrm>
          <a:prstGeom prst="rect">
            <a:avLst/>
          </a:pr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-Arzt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rankenha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hteck 57"/>
          <p:cNvSpPr/>
          <p:nvPr/>
        </p:nvSpPr>
        <p:spPr>
          <a:xfrm>
            <a:off x="684360" y="4687920"/>
            <a:ext cx="2663640" cy="830160"/>
          </a:xfrm>
          <a:prstGeom prst="rect">
            <a:avLst/>
          </a:pr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triebsarzt o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ausarz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feld 58"/>
          <p:cNvSpPr/>
          <p:nvPr/>
        </p:nvSpPr>
        <p:spPr>
          <a:xfrm>
            <a:off x="684360" y="2349360"/>
            <a:ext cx="26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Krankentran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feld 59"/>
          <p:cNvSpPr/>
          <p:nvPr/>
        </p:nvSpPr>
        <p:spPr>
          <a:xfrm>
            <a:off x="684360" y="4078440"/>
            <a:ext cx="26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Weiterbehandl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feil nach rechts 62"/>
          <p:cNvSpPr/>
          <p:nvPr/>
        </p:nvSpPr>
        <p:spPr>
          <a:xfrm>
            <a:off x="3492360" y="1125360"/>
            <a:ext cx="1800360" cy="1005120"/>
          </a:xfrm>
          <a:prstGeom prst="rightArrow">
            <a:avLst>
              <a:gd name="adj1" fmla="val 50000"/>
              <a:gd name="adj2" fmla="val 40583"/>
            </a:avLst>
          </a:prstGeom>
          <a:solidFill>
            <a:srgbClr val="00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Calibri"/>
              </a:rPr>
              <a:t>Sie informi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Gerade Verbindung 63"/>
          <p:cNvSpPr/>
          <p:nvPr/>
        </p:nvSpPr>
        <p:spPr>
          <a:xfrm>
            <a:off x="6767640" y="1528920"/>
            <a:ext cx="0" cy="39891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hteck 64"/>
          <p:cNvSpPr/>
          <p:nvPr/>
        </p:nvSpPr>
        <p:spPr>
          <a:xfrm>
            <a:off x="5435640" y="1270080"/>
            <a:ext cx="2665440" cy="830160"/>
          </a:xfrm>
          <a:prstGeom prst="rect">
            <a:avLst/>
          </a:pr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mittelbare/n Vorgesetzte/n und/o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ersonalabteil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hteck 65"/>
          <p:cNvSpPr/>
          <p:nvPr/>
        </p:nvSpPr>
        <p:spPr>
          <a:xfrm>
            <a:off x="5435640" y="2997360"/>
            <a:ext cx="2665440" cy="830160"/>
          </a:xfrm>
          <a:prstGeom prst="rect">
            <a:avLst/>
          </a:pr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falluntersuch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hteck 66"/>
          <p:cNvSpPr/>
          <p:nvPr/>
        </p:nvSpPr>
        <p:spPr>
          <a:xfrm>
            <a:off x="5435640" y="4687920"/>
            <a:ext cx="2665440" cy="830160"/>
          </a:xfrm>
          <a:prstGeom prst="rect">
            <a:avLst/>
          </a:pr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aßnahmen zur Gefahrenabweh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feld 67"/>
          <p:cNvSpPr/>
          <p:nvPr/>
        </p:nvSpPr>
        <p:spPr>
          <a:xfrm>
            <a:off x="5435640" y="23493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Vorgesetzte/r veranlas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feld 68"/>
          <p:cNvSpPr/>
          <p:nvPr/>
        </p:nvSpPr>
        <p:spPr>
          <a:xfrm>
            <a:off x="5435640" y="407844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es werden geprü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Sie sind versichert . . . 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i 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&lt; Name der Berufsgenossenschaft &g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aben Sie noch Verständnisfrag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anke für Ihre Aufmerksamkei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A739-E178-4ACB-A48F-30A3A556AA85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Wichtige Standorte 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o befinden sich in Ihrem Berei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F602-937A-48D4-9D2F-FB5B8207EB58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847880"/>
          <a:ext cx="8424720" cy="400032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  <a:gridCol w="2808360"/>
              </a:tblGrid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a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nnzeichn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94488"/>
                          </a:solidFill>
                          <a:latin typeface="Calibri"/>
                        </a:rPr>
                        <a:t>Fluchtw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94488"/>
                          </a:solidFill>
                          <a:latin typeface="Calibri"/>
                        </a:rPr>
                        <a:t>Feuerlösc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94488"/>
                          </a:solidFill>
                          <a:latin typeface="Calibri"/>
                        </a:rPr>
                        <a:t>Verbandka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94488"/>
                          </a:solidFill>
                          <a:latin typeface="Calibri"/>
                        </a:rPr>
                        <a:t>Notruftelef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7164360" y="264168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7164360" y="3468600"/>
            <a:ext cx="719280" cy="717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3"/>
          <a:stretch/>
        </p:blipFill>
        <p:spPr>
          <a:xfrm>
            <a:off x="7164360" y="4286160"/>
            <a:ext cx="719280" cy="716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"/>
          <p:cNvPicPr/>
          <p:nvPr/>
        </p:nvPicPr>
        <p:blipFill>
          <a:blip r:embed="rId4"/>
          <a:stretch/>
        </p:blipFill>
        <p:spPr>
          <a:xfrm>
            <a:off x="7164360" y="5086440"/>
            <a:ext cx="7192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Wichtige Rufnummern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8FF3-D5CD-4C68-A9DA-D080F7D543B5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39640" y="1413000"/>
          <a:ext cx="8064720" cy="4101840"/>
        </p:xfrm>
        <a:graphic>
          <a:graphicData uri="http://schemas.openxmlformats.org/drawingml/2006/table">
            <a:tbl>
              <a:tblPr/>
              <a:tblGrid>
                <a:gridCol w="4032360"/>
                <a:gridCol w="403236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a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ufnu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arz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tungsdien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uerwe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rchgangsarz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nkenha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Ihre Pflichten als Auszubildender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BEF2-64F7-4115-8C73-C6D42D347130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hteck 1"/>
          <p:cNvSpPr/>
          <p:nvPr/>
        </p:nvSpPr>
        <p:spPr>
          <a:xfrm>
            <a:off x="395280" y="1052640"/>
            <a:ext cx="4572000" cy="3660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Calibri"/>
              </a:rPr>
              <a:t>Sie haben die Pflich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übertragene Aufgaben sorgfältig auszuführ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m Berufsschulunterricht und an Prüfungen teilzunehm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eisungen der Ausbilder Folge zu leist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ltende Regelungen und Ordnungen für die Ausbildungsstätten zu beacht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ersönliche Schutzausrüstung, Maschinen, Werkzeuge, Ausbildungsmittel und sonstige Einrichtungen sorgsam zu behandel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s Berichtsheft ordnungsgemäß zu führen und regelmäßig vorzule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hteck 2"/>
          <p:cNvSpPr/>
          <p:nvPr/>
        </p:nvSpPr>
        <p:spPr>
          <a:xfrm>
            <a:off x="395280" y="53751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488"/>
                </a:solidFill>
                <a:latin typeface="Calibri"/>
                <a:ea typeface="Arial"/>
              </a:rPr>
              <a:t>Nur so lässt sich der Erwerb von Wissen, Können, Fähigkeiten, Fertigkeiten und damit das Erreichen des Ausbildungsziels sicherstell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10" descr=""/>
          <p:cNvPicPr/>
          <p:nvPr/>
        </p:nvPicPr>
        <p:blipFill>
          <a:blip r:embed="rId1"/>
          <a:stretch/>
        </p:blipFill>
        <p:spPr>
          <a:xfrm>
            <a:off x="5076720" y="1376280"/>
            <a:ext cx="3521160" cy="3322800"/>
          </a:xfrm>
          <a:prstGeom prst="rect">
            <a:avLst/>
          </a:prstGeom>
          <a:ln w="0">
            <a:noFill/>
          </a:ln>
        </p:spPr>
      </p:pic>
      <p:pic>
        <p:nvPicPr>
          <p:cNvPr id="356" name="Textfeld 2" descr=""/>
          <p:cNvPicPr/>
          <p:nvPr/>
        </p:nvPicPr>
        <p:blipFill>
          <a:blip r:embed="rId2"/>
          <a:stretch/>
        </p:blipFill>
        <p:spPr>
          <a:xfrm>
            <a:off x="8594640" y="2901960"/>
            <a:ext cx="3733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Arbeitszeitregelungen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F138-0D8F-472C-A27D-B19403FE0BFA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hteck 1"/>
          <p:cNvSpPr/>
          <p:nvPr/>
        </p:nvSpPr>
        <p:spPr>
          <a:xfrm>
            <a:off x="360360" y="1268280"/>
            <a:ext cx="4211640" cy="3934440"/>
          </a:xfrm>
          <a:prstGeom prst="rect">
            <a:avLst/>
          </a:prstGeom>
          <a:solidFill>
            <a:srgbClr val="f2f2f2"/>
          </a:solidFill>
          <a:ln w="9360">
            <a:solidFill>
              <a:srgbClr val="1944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rundsätzlich gilt für Si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ine 5-Tage-Arbeitswoc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it maximal  40 Stunden je Woche Arbeitszei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äglich nicht mehr als 8 Stund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rbeitszeit sow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ine mindestens 12 Stunden ununterbrochene Freizeit nach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endigung Ihrer täglichen Arbeitsze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1"/>
          <a:stretch/>
        </p:blipFill>
        <p:spPr>
          <a:xfrm>
            <a:off x="4721400" y="177948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361" name="Textfeld 4" descr=""/>
          <p:cNvPicPr/>
          <p:nvPr/>
        </p:nvPicPr>
        <p:blipFill>
          <a:blip r:embed="rId2"/>
          <a:stretch/>
        </p:blipFill>
        <p:spPr>
          <a:xfrm>
            <a:off x="8650440" y="2730600"/>
            <a:ext cx="3711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Arbeitszeitregelungen  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– Ausnahmen – 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A4D2-B6D9-4FD8-BB00-7531294B6E37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hteck 1"/>
          <p:cNvSpPr/>
          <p:nvPr/>
        </p:nvSpPr>
        <p:spPr>
          <a:xfrm>
            <a:off x="360360" y="1268280"/>
            <a:ext cx="4211640" cy="3934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lgende Ausnahmen können gelt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tägliche Arbeitszeit kann au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öchstens 8,5 Stunden betragen, wenn an einem Wochentag die Arbeitszeit verkürzt wir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0 Stunden bei Schichtarbeit betrag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1 Stunden in der Gastronomie, in der Landwirtschaft, in der Tierhaltung oder auf Bau- und Montagestellen bet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10" descr=""/>
          <p:cNvPicPr/>
          <p:nvPr/>
        </p:nvPicPr>
        <p:blipFill>
          <a:blip r:embed="rId1"/>
          <a:stretch/>
        </p:blipFill>
        <p:spPr>
          <a:xfrm>
            <a:off x="4702320" y="1779480"/>
            <a:ext cx="3948120" cy="2946600"/>
          </a:xfrm>
          <a:prstGeom prst="rect">
            <a:avLst/>
          </a:prstGeom>
          <a:ln w="0">
            <a:noFill/>
          </a:ln>
        </p:spPr>
      </p:pic>
      <p:pic>
        <p:nvPicPr>
          <p:cNvPr id="366" name="Textfeld 10" descr=""/>
          <p:cNvPicPr/>
          <p:nvPr/>
        </p:nvPicPr>
        <p:blipFill>
          <a:blip r:embed="rId2"/>
          <a:stretch/>
        </p:blipFill>
        <p:spPr>
          <a:xfrm>
            <a:off x="8650440" y="2730600"/>
            <a:ext cx="3711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920000" cy="432000"/>
          </a:xfrm>
          <a:prstGeom prst="rect">
            <a:avLst/>
          </a:prstGeom>
          <a:gradFill rotWithShape="0">
            <a:gsLst>
              <a:gs pos="0">
                <a:srgbClr val="19448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eece1"/>
                </a:solidFill>
                <a:latin typeface="Calibri"/>
              </a:rPr>
              <a:t>Pausenregelungen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Foliennummernplatzhalter 4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AD8C-6FD4-42F8-953A-60F968A3371F}" type="slidenum">
              <a:rPr b="1" lang="de-DE" sz="1200" spc="-1" strike="noStrike">
                <a:solidFill>
                  <a:srgbClr val="194488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hteck 1"/>
          <p:cNvSpPr/>
          <p:nvPr/>
        </p:nvSpPr>
        <p:spPr>
          <a:xfrm>
            <a:off x="5626080" y="1131840"/>
            <a:ext cx="30956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ach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lang="de-DE" sz="1800" spc="-1" strike="noStrike">
                <a:solidFill>
                  <a:srgbClr val="ff0000"/>
                </a:solidFill>
                <a:latin typeface="Calibri"/>
              </a:rPr>
              <a:t>ununterbrochene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Beschäftigung von mehr als 4,5 Stunden ist nicht zulässi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1944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rbeitszeitunterbrechungen von mehr als 15 Minuten gelten als Ruhepau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hteck 2"/>
          <p:cNvSpPr/>
          <p:nvPr/>
        </p:nvSpPr>
        <p:spPr>
          <a:xfrm>
            <a:off x="468360" y="1131840"/>
            <a:ext cx="194292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i einer täglich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rbeitszeit v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hteck 6"/>
          <p:cNvSpPr/>
          <p:nvPr/>
        </p:nvSpPr>
        <p:spPr>
          <a:xfrm>
            <a:off x="468360" y="2011320"/>
            <a:ext cx="1942920" cy="576360"/>
          </a:xfrm>
          <a:prstGeom prst="rect">
            <a:avLst/>
          </a:prstGeom>
          <a:solidFill>
            <a:srgbClr val="cdcd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94488"/>
                </a:solidFill>
                <a:latin typeface="Calibri"/>
              </a:rPr>
              <a:t>4 bis 6 Stu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hteck 11"/>
          <p:cNvSpPr/>
          <p:nvPr/>
        </p:nvSpPr>
        <p:spPr>
          <a:xfrm>
            <a:off x="2916360" y="2011320"/>
            <a:ext cx="1942920" cy="576360"/>
          </a:xfrm>
          <a:prstGeom prst="rect">
            <a:avLst/>
          </a:prstGeom>
          <a:solidFill>
            <a:srgbClr val="cdcd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94488"/>
                </a:solidFill>
                <a:latin typeface="Calibri"/>
              </a:rPr>
              <a:t>30 Min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3" name="Gerade Verbindung mit Pfeil 9"/>
          <p:cNvCxnSpPr>
            <a:stCxn id="371" idx="3"/>
            <a:endCxn id="372" idx="1"/>
          </p:cNvCxnSpPr>
          <p:nvPr/>
        </p:nvCxnSpPr>
        <p:spPr>
          <a:xfrm>
            <a:off x="2410920" y="2298240"/>
            <a:ext cx="505800" cy="1080"/>
          </a:xfrm>
          <a:prstGeom prst="straightConnector1">
            <a:avLst/>
          </a:prstGeom>
          <a:ln w="9360">
            <a:solidFill>
              <a:srgbClr val="194488"/>
            </a:solidFill>
            <a:miter/>
            <a:tailEnd len="med" type="triangle" w="med"/>
          </a:ln>
        </p:spPr>
      </p:cxnSp>
      <p:sp>
        <p:nvSpPr>
          <p:cNvPr id="374" name="Rechteck 14"/>
          <p:cNvSpPr/>
          <p:nvPr/>
        </p:nvSpPr>
        <p:spPr>
          <a:xfrm>
            <a:off x="2916360" y="1270080"/>
            <a:ext cx="19429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mfang der Pa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hteck 15"/>
          <p:cNvSpPr/>
          <p:nvPr/>
        </p:nvSpPr>
        <p:spPr>
          <a:xfrm>
            <a:off x="468360" y="2874960"/>
            <a:ext cx="1942920" cy="576360"/>
          </a:xfrm>
          <a:prstGeom prst="rect">
            <a:avLst/>
          </a:prstGeom>
          <a:solidFill>
            <a:srgbClr val="cdcd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94488"/>
                </a:solidFill>
                <a:latin typeface="Calibri"/>
              </a:rPr>
              <a:t>&gt; 6 Stu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hteck 16"/>
          <p:cNvSpPr/>
          <p:nvPr/>
        </p:nvSpPr>
        <p:spPr>
          <a:xfrm>
            <a:off x="2916360" y="2874960"/>
            <a:ext cx="1942920" cy="576360"/>
          </a:xfrm>
          <a:prstGeom prst="rect">
            <a:avLst/>
          </a:prstGeom>
          <a:solidFill>
            <a:srgbClr val="cdcd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94488"/>
                </a:solidFill>
                <a:latin typeface="Calibri"/>
              </a:rPr>
              <a:t>60 Min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7" name="Gerade Verbindung mit Pfeil 17"/>
          <p:cNvCxnSpPr>
            <a:stCxn id="375" idx="3"/>
            <a:endCxn id="376" idx="1"/>
          </p:cNvCxnSpPr>
          <p:nvPr/>
        </p:nvCxnSpPr>
        <p:spPr>
          <a:xfrm>
            <a:off x="2410920" y="3161880"/>
            <a:ext cx="505800" cy="1080"/>
          </a:xfrm>
          <a:prstGeom prst="straightConnector1">
            <a:avLst/>
          </a:prstGeom>
          <a:ln w="9360">
            <a:solidFill>
              <a:srgbClr val="194488"/>
            </a:solidFill>
            <a:miter/>
            <a:tailEnd len="med" type="triangle" w="med"/>
          </a:ln>
        </p:spPr>
      </p:cxnSp>
      <p:sp>
        <p:nvSpPr>
          <p:cNvPr id="378" name="Rechteck 18"/>
          <p:cNvSpPr/>
          <p:nvPr/>
        </p:nvSpPr>
        <p:spPr>
          <a:xfrm>
            <a:off x="468360" y="4514760"/>
            <a:ext cx="8280360" cy="1069560"/>
          </a:xfrm>
          <a:prstGeom prst="rect">
            <a:avLst/>
          </a:prstGeom>
          <a:solidFill>
            <a:srgbClr val="f2f2f2"/>
          </a:solidFill>
          <a:ln w="9360">
            <a:solidFill>
              <a:srgbClr val="1944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spruch auf die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erste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Ruhepause: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rühestens nach 1 Stunde Arbeitsze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spruch auf die 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letzte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Ruhepause: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pätestens 1 Stunde vor Ende der Arbeitsze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feil nach rechts 10"/>
          <p:cNvSpPr/>
          <p:nvPr/>
        </p:nvSpPr>
        <p:spPr>
          <a:xfrm rot="5400000">
            <a:off x="2231640" y="3681360"/>
            <a:ext cx="863640" cy="647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Geschweifte Klammer rechts 12"/>
          <p:cNvSpPr/>
          <p:nvPr/>
        </p:nvSpPr>
        <p:spPr>
          <a:xfrm>
            <a:off x="5003640" y="1131840"/>
            <a:ext cx="432000" cy="244152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2441520"/>
              <a:gd name="textAreaBottom" fmla="*/ 2430360 h 24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16200" y="10800"/>
                  <a:pt x="21600" y="10800"/>
                </a:cubicBezTo>
                <a:cubicBezTo>
                  <a:pt x="162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feld 13"/>
          <p:cNvSpPr/>
          <p:nvPr/>
        </p:nvSpPr>
        <p:spPr>
          <a:xfrm>
            <a:off x="395280" y="580536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Ggf. sind darüber hinaus tarifvertragliche Regelungen zu bea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1:01:21Z</dcterms:created>
  <dc:creator>Lundershausen</dc:creator>
  <dc:description/>
  <dc:language>en-US</dc:language>
  <cp:lastModifiedBy> </cp:lastModifiedBy>
  <dcterms:modified xsi:type="dcterms:W3CDTF">2015-06-12T09:09:04Z</dcterms:modified>
  <cp:revision>81</cp:revision>
  <dc:subject/>
  <dc:title>PowerPoint-Präsentation</dc:title>
</cp:coreProperties>
</file>